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sldIdLst>
    <p:sldId id="256" r:id="rId54"/>
    <p:sldId id="257" r:id="rId55"/>
    <p:sldId id="258" r:id="rId56"/>
    <p:sldId id="259" r:id="rId57"/>
    <p:sldId id="260" r:id="rId58"/>
    <p:sldId id="261" r:id="rId59"/>
    <p:sldId id="262" r:id="rId60"/>
    <p:sldId id="263" r:id="rId61"/>
    <p:sldId id="264" r:id="rId62"/>
    <p:sldId id="265" r:id="rId63"/>
    <p:sldId id="266" r:id="rId64"/>
    <p:sldId id="267" r:id="rId65"/>
    <p:sldId id="268" r:id="rId66"/>
    <p:sldId id="269" r:id="rId67"/>
    <p:sldId id="270" r:id="rId68"/>
    <p:sldId id="271" r:id="rId69"/>
    <p:sldId id="272" r:id="rId70"/>
    <p:sldId id="273" r:id="rId71"/>
    <p:sldId id="274" r:id="rId72"/>
    <p:sldId id="275" r:id="rId73"/>
    <p:sldId id="276" r:id="rId74"/>
    <p:sldId id="277" r:id="rId75"/>
    <p:sldId id="278" r:id="rId76"/>
    <p:sldId id="279" r:id="rId77"/>
    <p:sldId id="280" r:id="rId78"/>
    <p:sldId id="281" r:id="rId79"/>
    <p:sldId id="28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" Target="slides/slide1.xml"/><Relationship Id="rId55" Type="http://schemas.openxmlformats.org/officeDocument/2006/relationships/slide" Target="slides/slide2.xml"/><Relationship Id="rId56" Type="http://schemas.openxmlformats.org/officeDocument/2006/relationships/slide" Target="slides/slide3.xml"/><Relationship Id="rId57" Type="http://schemas.openxmlformats.org/officeDocument/2006/relationships/slide" Target="slides/slide4.xml"/><Relationship Id="rId58" Type="http://schemas.openxmlformats.org/officeDocument/2006/relationships/slide" Target="slides/slide5.xml"/><Relationship Id="rId59" Type="http://schemas.openxmlformats.org/officeDocument/2006/relationships/slide" Target="slides/slide6.xml"/><Relationship Id="rId60" Type="http://schemas.openxmlformats.org/officeDocument/2006/relationships/slide" Target="slides/slide7.xml"/><Relationship Id="rId61" Type="http://schemas.openxmlformats.org/officeDocument/2006/relationships/slide" Target="slides/slide8.xml"/><Relationship Id="rId62" Type="http://schemas.openxmlformats.org/officeDocument/2006/relationships/slide" Target="slides/slide9.xml"/><Relationship Id="rId63" Type="http://schemas.openxmlformats.org/officeDocument/2006/relationships/slide" Target="slides/slide10.xml"/><Relationship Id="rId64" Type="http://schemas.openxmlformats.org/officeDocument/2006/relationships/slide" Target="slides/slide11.xml"/><Relationship Id="rId65" Type="http://schemas.openxmlformats.org/officeDocument/2006/relationships/slide" Target="slides/slide12.xml"/><Relationship Id="rId66" Type="http://schemas.openxmlformats.org/officeDocument/2006/relationships/slide" Target="slides/slide13.xml"/><Relationship Id="rId67" Type="http://schemas.openxmlformats.org/officeDocument/2006/relationships/slide" Target="slides/slide14.xml"/><Relationship Id="rId68" Type="http://schemas.openxmlformats.org/officeDocument/2006/relationships/slide" Target="slides/slide15.xml"/><Relationship Id="rId69" Type="http://schemas.openxmlformats.org/officeDocument/2006/relationships/slide" Target="slides/slide16.xml"/><Relationship Id="rId70" Type="http://schemas.openxmlformats.org/officeDocument/2006/relationships/slide" Target="slides/slide17.xml"/><Relationship Id="rId71" Type="http://schemas.openxmlformats.org/officeDocument/2006/relationships/slide" Target="slides/slide18.xml"/><Relationship Id="rId72" Type="http://schemas.openxmlformats.org/officeDocument/2006/relationships/slide" Target="slides/slide19.xml"/><Relationship Id="rId73" Type="http://schemas.openxmlformats.org/officeDocument/2006/relationships/slide" Target="slides/slide20.xml"/><Relationship Id="rId74" Type="http://schemas.openxmlformats.org/officeDocument/2006/relationships/slide" Target="slides/slide21.xml"/><Relationship Id="rId75" Type="http://schemas.openxmlformats.org/officeDocument/2006/relationships/slide" Target="slides/slide22.xml"/><Relationship Id="rId76" Type="http://schemas.openxmlformats.org/officeDocument/2006/relationships/slide" Target="slides/slide23.xml"/><Relationship Id="rId77" Type="http://schemas.openxmlformats.org/officeDocument/2006/relationships/slide" Target="slides/slide24.xml"/><Relationship Id="rId78" Type="http://schemas.openxmlformats.org/officeDocument/2006/relationships/slide" Target="slides/slide25.xml"/><Relationship Id="rId79" Type="http://schemas.openxmlformats.org/officeDocument/2006/relationships/slide" Target="slides/slide26.xml"/><Relationship Id="rId80" Type="http://schemas.openxmlformats.org/officeDocument/2006/relationships/slide" Target="slides/slide2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E269-33FA-4BB0-BAA2-4FD2E8018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7C5A-C26D-49FF-A425-5FA956C51D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0EC37-0476-4428-9EE3-7E8BBC08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4655C-52FB-4217-ABBF-9672920E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91877-2BB0-4B48-BC7B-0BC0D73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7DA61-BB8B-4436-9D63-939BA1AA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D2DF-2BB5-4D85-A77A-12E71E73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47C2A-0EDF-4288-9543-AB471B9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D317A-7B6C-413C-92AD-B15CCF36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43B4D-9111-4985-AA2E-B617FAD6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4D4A6-8567-47C8-946F-32D22549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2D9EC-4D82-4326-B1D5-99DDD09F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1592-D9C7-4816-9BB5-18B0CEF4DFE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1B26E-7244-458F-AF69-316B9323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16C0-E092-466F-AD2E-B1352407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6D0D8-0D85-492C-99FD-91977C5E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3A3E-EE41-4A0B-B69B-FFFFCD21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86792-CE36-4BA1-A688-C8B0D1C1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F62B6-F7B2-462D-99C6-6E86217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D31C5-3706-4593-B8B0-099CF5D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76DE3-2FA7-4811-9E25-184CDE53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DE773-0EA6-43A2-BF32-4CD49F91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EA54E-A09E-4D21-8342-2165AEA6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4EEC-9E63-48B5-9690-1C94B03358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E95D0-CDE0-4F91-9428-3AEEDF29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8EFAF-2A42-4C95-857B-C20FA2FF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90E5-424E-4622-985F-62E6DF06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615E-0E3C-4AF7-AF4C-7E02E76D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5F92B-237E-4361-84C9-85BD1A4D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CAB95-8501-4EDA-A18C-059A230F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A4F9D-308C-4B2A-9D84-6D0E34A0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DB61-CF52-455E-A41B-88849488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E743F-1CCE-49F2-8873-5FB0ABDC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7062C-57C5-4AC3-9089-94BF3D6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DB4E-6B32-481F-94BA-D2FAB149E90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F0ADE-F43E-4DCE-A632-8BF39A69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3CF9F-6037-4ED1-B71D-7AFF08DF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2DFD0-5D85-48F7-B3C6-6ADC472E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E3FA1-B2A0-4AEC-814A-A04A3CD2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F610-CE0C-4CDE-A68C-44F12DFC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99D86-FAA5-40C6-BD4F-6298FE23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46D1D-3CDC-4B9A-BCC6-6EBA3B21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E9A45-CB8D-4081-800B-DF0583FF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BC4C3-F4E2-4E03-A56A-52D6D03F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A1152-A6B9-473B-9C95-1AAC88DA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F448-7B6D-4705-81D9-B12DEB86FB1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217B4-7641-40CE-ACC1-8E5ACA6F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2D134-9474-47C1-A622-AF3937B2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8AFBE-2ADA-4A89-97FD-D21D9C2D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C6207-321C-42D8-8303-863F6651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D2C84-F4C6-407A-89BD-DFB738B2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262FC-06EC-404F-8037-25789282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DF7C2-2C31-48B3-85C2-2EADD99D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7251A-0667-4F47-BAA0-F3C0C101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0D45B-AAAF-4843-9B4B-FC9B495B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32F34-85E1-429D-9918-198F71F4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7126-8F4A-4CE4-B79A-4EE33A3E601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FB91F-97ED-4071-A37D-83C8613C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D7AD5-B59B-4830-B31B-039EBDAD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85872-68A6-4ABC-97E3-AF10D39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E68B9-DC6B-42D5-9600-1F4BADDA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A144B-5EA9-4269-8EB5-F63A3CE3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55131-0984-458E-BB7D-091FB8DC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2366C-977E-4612-A517-B9BD0B63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C3903-01F9-4791-9353-334519A7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15DCB-0D36-45D3-ABE0-EAF60C10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1D6DB-0E93-42F5-BA11-CE51B886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6C85-6146-455C-B8B6-BCBD46FA456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05BF1-D8A8-42E3-9DE3-4759E477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FB01E-8392-42B9-9007-2EE7B3EB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2328E-6BE2-43EB-A888-A6B6B9E5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7471A-E94E-450C-B564-2FC4646D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E1E44-E9DE-462D-934F-E9AF00F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4F5F9-2422-4848-BB8F-BE3F0A3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F7021-C0F0-4AF9-8848-ED39EE89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AAB9F-C36A-49E6-AD32-A653271F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F855E-0A4A-4EB5-9912-1AF0AA79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1AAD6-D34C-4130-9D60-404B6312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D7DF-9ACE-4D08-B515-D2AFF6C302F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1A673-25A2-47A8-B761-8F9E031D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B8F07-479F-4247-9621-0CB9ECEC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23069-9A6F-4B4F-ABC8-F341D729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CFFCE-2C1D-4FA4-8CD2-8438D9F4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2C4F5-5A8B-4767-92BC-78FB3076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4365B-68A5-48FF-B8FF-56AE7670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015B8-F170-4FDB-A9AA-64083A2D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D0997-B904-49C2-B3CD-93258CBB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F9AA0-C2C3-4D08-B363-B17A280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22340-EC4D-436A-8801-44DE16A9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EDCA-A120-4A67-9D59-C11D2AF7E9F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AD99E-2367-47C2-8016-518E36D0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37D7BA-F480-4560-BF29-75E453F49D7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9D2872-5205-470C-9A37-74F327AFA72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45824E-F050-42D0-9144-E20FC550F82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9FC33E-2B7A-40D7-A137-6ECB321F6F4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32B300-4BA9-4E49-86DA-D9986FC6377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288DAA-EA46-42F2-8A7C-4D169E59B4F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7D59C5-AE5E-4830-9FF3-B4D2E8945A0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205D9B-1624-425E-8688-CBD724F230E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70686F-681D-4AA7-82CB-AD2B3B2C4B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6295-B01C-4A9E-AC3B-A287925DB83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75C893-F1D1-4A12-BAD9-80BD44B4A92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A0735F-B647-4E5C-9B8F-73870AC65F9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521DC7-F8FE-435F-B987-75F9D3B25EB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C55143-5557-4088-BC7F-6EA9E655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629D65-1B6D-4469-BE7A-E8F390B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D02C59-8AB6-4EA0-90BE-45C55472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D8F09C-0917-43E7-8AF0-3691EA19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321038-1BEC-4C68-A111-BEE5A3B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BFC012-1B77-4235-9BA4-E14034BE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CA79B2-EDD6-4600-9B77-8532BA47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869E-57F2-42C6-AEB4-80577DD52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EA8A-A535-435E-A838-67C7E062958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1501A1-3B0D-46AD-A247-F5F3872F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B84356-91C2-4868-A653-75615DC6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7DF4AF-1F95-4B83-8714-CC7F3633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9EEACC-67A3-4C4B-B364-ADB5BA53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081A1F-9736-47FF-8963-3C11A1D7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5C7DA7-EB5B-4810-8CCB-88A23D86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E9EA79-63B4-4696-BFD6-592EA07A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C54E13-E648-42B9-A40D-AA5FFC9F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33684F-F570-40C1-9E76-6A79C9C1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9E1FB6B-BF70-47CE-9606-53C4E573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FC1A-8C56-496C-A5F8-B506E273B08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7759D6-1D7F-47EB-AEBE-83DD5866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18531B-2D90-4AB6-A831-C43143F3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6632C7-03A2-4A6D-B20D-3C05FDC8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1F1069-1208-4F66-8FC4-C6A453D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84941A-7DD5-4486-96D6-FB356C23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438537-F570-4FB5-BCFE-885E01A3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534CF6-8712-4AE4-9D1E-82FF0111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AEE211-5BAC-4E48-8F38-3CECD153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452560-57AB-4E91-ADB3-39E9999D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B1CC50-C7DE-489D-AD7D-7EE11B7D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8C45-448B-4546-83F0-54ECFA3DEFF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A7C884-CF5D-4E67-9B16-DF17B340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F74F45-1257-453D-84C0-8030165A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5B9C60-8165-4C5A-967A-93C1F849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3FB242-9D10-4ED8-BCC3-3E739E60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5DF438-4AE9-4BF5-9918-3A4B204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98D53B-2FA5-4780-9075-FA6EA7DA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36653B-F0B6-4314-99D9-18E7DB20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E07943-4467-41DE-9435-69949837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4C72CA-1146-433B-9DFA-316CB7D0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F33E0C5-B394-4659-9B6F-ABA6AAC2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DE95-A5C4-4D5A-BC6C-8FB2D0E51F9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E73260-DBA7-48F0-B3E4-D1D4D729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85667B-50DA-4C7A-8A5B-F72BF823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119331-71D6-4ECE-AAA7-12AA3A19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C45A04-454C-4F82-A3CC-42E8A378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1D81F44-73C5-467A-A073-173723F8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48A0CD4-15D7-4275-98A8-89F8D48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B075B9-6747-4DA3-B3F8-826D71D3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B83570B-AD0B-43F6-A837-61890B4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7D856C-CEEF-4785-8410-044C322B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4D5E6C-764B-4D6E-BE31-016C009A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21FF-3249-4A57-B34D-71AC0839F10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7F4CAA-DB47-4E5F-AC7A-2ACD8989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0C877F-E85D-4839-9318-6149C8EE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6F96B2-4130-421D-8F41-3E7E920B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88264B-2DE1-4172-AE1D-F99DC2FF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0EA03E-CF41-4D35-8079-03ED71BF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5237F5-A676-4875-BE2B-53E5FE91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2A8E009-E40F-4C08-B8A7-2E27DC01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11BB80-38C8-4A0D-B9D2-625DA2BD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2F571B-F03C-4CCD-99D2-894DAFC3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48DCB3-3A1E-4DCC-B97D-921023A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1FE-6D8D-4A73-83BB-205FB9F72B4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8CB92E-142F-4145-A423-2BB8E569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BBE072-6728-4B71-8121-4B623C1B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279533-3675-42E2-973F-71313455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7D43F56-76BD-4FAC-9391-03B10E84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D33A7F-3035-4DAF-8B1A-2BFE5785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31C509-AF6B-4BE5-9D28-626218D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45F3211-17D5-44E4-BF3B-6B7EA314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8F5AF0C-0D6E-4DAD-9D45-F7D7B26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FAD7365-96DE-4653-A5C7-A596F8DE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74AA24D-D5A0-4C26-950D-3C9490F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952-F0CE-4E5D-87E8-703E2D66F48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6A4F6B-7730-44A9-B791-E152D126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2A1EC1-5DA3-417B-BCB1-E7F34FC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39BCF78-EE78-4593-A2F2-25E1067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178B68-B8ED-4FF4-81BC-6649941B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AC5EEE-E811-4060-84C8-B2128F0E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1A07873-5770-47D6-807C-39C9714D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81775B-3DB3-44FA-84C9-E2F2C8E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11B183-41AA-4988-B236-A16E8EC2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13EB0F9-99A4-497A-A47D-64899ECE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73450D-9F0D-4690-856E-17D18126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621-E7F1-47A6-86AF-68C6E9CFCF2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085407-0514-4827-95BC-4E8C02F6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6ADDEB1-C0AF-4711-A4A2-84C70D90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8E0B86C-31CC-458C-98E3-F5F3DAE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FEA132-B0A2-48D6-AA69-1C87F68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928909-6E97-470D-AFA8-8338E60B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CC915F8-11AA-4514-9B51-515B5BDD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8BD141-599A-4ADC-96B3-6D1A8F78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22F653-DCEC-44F9-AE36-566502E5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651B1B-6FD3-43D5-B5E7-14698EF8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7E9466-2DCF-4C27-A17A-6EA91663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8DA-14E8-4B56-9ED8-C7D79054E7F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23F4B9-D614-4633-8135-B1A9029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5E514C0-C9F6-4646-9770-1307541D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C7BC319-FE19-41CE-A80F-BFF9C6BA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FEC23C-2AE2-4E9D-9003-51AE6A5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EFDAA60-C17C-440C-846D-3E415689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C62A635-450A-48A5-A4B7-C77C906D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EE20B6-62E6-4C1F-9D7E-84BC23BE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0789F1-53E4-4E35-8B44-FF0FF5F2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EDB57C0-DC7E-422D-BE71-ECC5F78E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11D272C-2220-4A65-B792-F81B041C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1C7-0150-4C96-B910-A7B678033C9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88D15D-137B-4527-8B43-D602187D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5DEDEEE-2045-4938-8F7E-3EB38296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3741765-0B21-476B-A6B8-C43E69F8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4A00576-56CE-4143-B6FF-5C569458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5A6594-06E5-41CD-AC98-B4FA389D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B04B806-A16C-48E3-A8A1-91ACEC4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B10501-FD23-4399-BF42-71A6881D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09FA3A0-C49F-4CBD-BAB0-4BACE5E5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B6A5EAF-6D7F-41C6-9135-4221C279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306C05-FDA8-46FD-9E3A-53F599A1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9AEA-B26D-4873-9478-234E69A0FE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C348-76D4-4557-9556-1269C9FDC74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4073AC8-A74B-4216-9FC8-D0D095AA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CDE8DA-3F2B-40A7-99BD-47064863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7383F01-C2CD-4CD0-8B53-CBEA13C5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E967EC4-395B-4971-87E8-FDC64EC0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9BBDE8B-5D56-44B0-8E8E-34B895AA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849D50-9FD2-4A90-8742-38CC3294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BA720E8-92C6-47B3-AFD2-32E6C208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8236B83-EFC6-40E9-8674-1BC3D0F5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A191B70-054C-4896-8B67-431BA819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89D936-D9EC-4C1A-A83C-4E06BA15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C6D-D43B-4E77-A46E-00C2BF89F4E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0EA29FB-E83D-48CF-A052-4016F75F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6CCFBDB-1E22-4F52-A5A8-1907F91E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7FB6269-964D-4B8C-8876-12375C40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404DBB-1010-4712-A149-B459599D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5C13517-A7A5-4566-B037-E2FC3873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30A3C9E-9A38-4C1A-9B45-6C7D966D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6E7C000-CAD9-4F19-AEDE-7D8C6671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B7F0B7-FEB0-4A9D-8413-80AF2502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C2EF22E-36DE-4B63-98F4-1F2D2705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DACE72F-54C9-4852-988D-681C30C9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92A-785E-4277-9C5F-34F1F2DA564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670794A-12D2-45D8-AF34-FD4F6286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050462B-3B7B-4BC2-96C7-124CF0D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5B6C1D8-4ADE-4A52-9725-AFF71FE8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6C5EC7B-ECE0-45CE-B371-08A2E573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84071F7-211E-4730-ADCB-9658CC29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420C9DC-6C8E-4F30-AC1A-B8C256A9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7F11BD3-55C3-4517-82C9-12A5DA27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1B2924-5EA2-4A66-9D0C-2928E2B4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621D8F8-ADD8-44CB-93D6-DD82A0C3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1D287A7-8539-4F21-96EC-1C42BB38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CD2-BB24-4824-B109-15AA4170CF33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2060E75-8D91-438C-824D-7545EC8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05E7B72-CDE4-4421-AC94-AD7EB3F5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F0C264B-5A21-465C-B026-FD9299E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4AC1B9-6CEC-4D15-8E4F-F0F31F1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4C8842-990B-4237-8DFD-5F128E59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64D1A22-701F-42AE-BD8C-40EDA69E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BBB2781-51F6-4A17-A0AC-24528DFC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C8C5B89-D43D-4F35-9917-A7BEE22851A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41DE660-A743-4807-98FC-7AAFCF7874A4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7F0BF82-4813-432F-B54A-14CB17EB2D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1DC-BF5D-4F75-ADD2-C010B0FD80E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6C4BCCF-5DCC-4A58-BBFD-2DE3BE12A3EF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E7E018B-E58A-45E0-9F2E-4C5E354F87D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0B1381-6C04-43DB-966B-764331601F2C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FC178B7-3C87-4CF8-A498-655A3B9245C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89E619-584C-45F6-A04C-638D70FC1A2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292D4E2-B138-41F6-8BA8-5E3EA3EF331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FC054E5-2D6C-41CD-B726-60C3BA9001B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62988EA-5599-4B51-93F0-1E279ACA49F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E72739-B419-4CE5-AE97-FE10CE5ACAF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E89613C-FDB4-4934-8367-2CF41303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EA9-FD17-4299-A296-1B30CC2E280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3FF6972-47A3-48CC-863E-1E3562B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8448F35-785D-4003-BC76-F4455F9F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60FE1E6-2F9C-40B4-BC88-B0E40E8E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286150-8A1C-4FDF-8C41-B33AAB47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D655968-9DCE-412C-ABFB-D6694F3A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58C11F0-09FC-4767-A5B1-7DB11AA4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CD2CBC9-B23F-4F52-B554-965BF530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6D39F3E-0C92-4372-8571-6828C8E8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87E0044-3803-44C7-9297-B6B3A1CC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DD5330-880D-4C48-A85C-3A73001B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0A4-BCEA-4162-8E4D-338419EB7EA3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B7CF18-C5C3-48B5-AB9F-79FCB151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B7737D9-133E-47A5-8406-6DADA4E6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3921AD2-6A87-4B45-B58F-8685E13F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8EE4684-0764-4156-8E6D-B058D6EF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CABFDFE-225E-4C64-97B1-EAF92A53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5254347-A1AF-4C66-B82C-37E71E72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E0BB193-C2DC-4622-8DE6-CD13B1A9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9810B12-A7B6-45E8-BED1-0CF9B9EC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96E342-4DC8-4EA5-80C8-4B915467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6B0AE4A-B1BD-4D9D-A1B0-A64C848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8BAFC9B-E83A-42E9-9B62-E22ACFE1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9821E09-AB18-4E11-8D11-AE0F9F22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D86E054-89B7-435C-9CF4-40160192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AD85A0C-62B9-4D32-A4DC-021A1ADC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B808A7-1898-4D89-9829-DEAF01B5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87B4BBA-1B97-4705-80F4-8EBF9CBD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B4ED313-EB5A-409C-B986-32313C99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2DEE92F-C4FF-40FA-844A-9CB26037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A62341D-A1C5-4B3E-AFDD-A8DC2017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CD37F1C-15F9-4CF8-B4D3-92776B8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37D738D-39E0-4E9D-A74B-D737BD5D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3A2C2CE-6016-49FA-BD69-CB373582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E391AE2-0F00-4519-9073-016D27AE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92BEFD-4F67-4621-987F-DB00AD2C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B696A32-51C9-41B8-B424-5B14AA99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F6E16F4-F687-4DCB-A7B1-12AB3DE4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612B4BE-4611-42ED-AFF1-C17DAC2B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5736A8-2E8C-4C6D-8E5D-7EF0C04C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F538827-DDC9-4E78-BABD-367A77F6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40A3159-0B02-438F-A973-B14F343E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F361987-EB28-4666-9DF5-2ABD021C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1234E81-FA2F-41AD-9D58-AE084CDA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E732550-D905-4392-8E82-17BCE9F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E71B20D-911D-46C0-82A7-2198A01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BFBDCE6-A193-4336-9F41-DC1BD978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C23F9B-8514-4E5D-9343-0C246F03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DE4B32C-8D64-4978-B886-32BA3978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24C6373-1107-4AEB-8D32-E97A6193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B30C54D-BB7D-49CD-8835-83063C57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8BFF5EE-C42D-47CC-9751-77B56845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3C4A-68CA-460D-BA1B-6DC640BAF0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350FFED-1C1C-4A9B-8323-0D54D1E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3ADBF02-64F0-4E22-9F79-1E18E327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71BC306-0D19-45EE-AC16-B5A90ACA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295ACFB-2D88-4241-9263-25CE3EF5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2EF30B3-A519-4E52-B3CD-9C4251CB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F8C31B2-F22C-4952-80E1-4CE722D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13D8432-B695-4B65-B4B6-4B96E19D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B91FB6F-7285-4740-8B01-98A04EBE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E8FE05-8B86-44FB-B7B5-D3ED28B2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95B4E82-011D-41CC-8CB3-00F97628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436BD5B-5931-4B4A-A509-A4346C96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74EBEAE-C381-4849-BB1A-C66A87F9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90C7572-A2D7-480A-8A10-E52B1B5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9BE3EC4-6278-446A-A755-38BD02BD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22D7D1D-6C4D-45FA-9DE1-008512D5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0DBE8AB-8A5F-4DCF-99AC-76AA8B7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B71434A-A989-4C13-81FF-C4D0C19E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87D5193-A59F-450F-B38D-796F9AAC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AFD6620-C7E8-4F4C-9D51-C9E3297B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426BB3A-283E-4591-B0F8-357F5EAE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C9D2E8D-26DC-42EC-BE96-3FF5EE8A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7CC5C62-263C-4A8A-A793-9CB34D20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3E53A0B-D624-4B60-9502-51200E2D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960A8FA-8F81-4B06-9930-C77647D9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6520985-6176-49F2-98DC-D24A193A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2882B79-6E47-47BB-BB17-BFB711FF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EAD0E0E-5A79-470F-A5A3-1F44FF76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4BC7BE8-E22E-42B0-843E-3227CC2F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3EF6C99-DE14-4BE7-90B7-B4AF313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E3BFAE0-8C75-43CD-BFAB-361C7A1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385BC82-BFCE-4AA6-800B-3FF0519A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53BF476-C104-42E8-8949-6F022351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2218826-9635-4B8D-9FC0-05507253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4216897-FCD9-41FF-B547-C0268E30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1DA4CF8-DFE6-4B39-BBE6-5CAFDE28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1A2E338-FFC8-4E8B-AB29-AF1379B9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DB033C9-0E7D-48F4-BC18-605C24F7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7E0F043-3B2F-47AE-9551-B925B849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6CE2C0A-F71F-4690-9208-DE989658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924E46E-7BE9-484B-943E-345B3299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7490DBE-2D28-4062-A337-177308EF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7A7F17C-BDDF-40A6-8764-B08EEC70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B5CF447-CA4A-4E20-AB08-6C78B5B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8501D64-C5DF-4474-B2DA-2C74F415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098F816-7A6A-4392-A692-6799B1AC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6745F67-CE16-451A-A040-A3CD64E6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63C1B90-C8F4-469E-B5CC-60375912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7BCB98A-0EAD-49A3-B700-DD5F4C06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A79B14A-1F63-462C-BE6F-95D942F8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BEF3E98-3394-48FD-9EC4-0206E58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BC01B9B-1A5F-4E4F-9AC2-B3003193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15A5EC5-73AF-491D-80FF-56C69B82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6011DB1-E648-4BFB-8744-4D94E7C5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2BE593F-CB3D-4CE9-8A00-8251346E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A167ADC-2E6D-4141-B7A5-CA457F04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74FDE89-0029-4E1A-B0B3-CF8C6938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12CA3C1-790D-4EAB-9ECF-1EC6A789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F649249-8A7E-49E2-801E-F5CFCA84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7627C29-637C-4E3C-B001-780F7808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448586F-75F0-472A-A71E-C78278D3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FBF6FB1-7046-47C0-B7F5-31EEC777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5133BA4-6C66-4577-85A5-2BA987F4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A4E7FB9-315D-4D78-ACAF-8577A88D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F4C32A2-D56D-4A68-91A2-19886987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041F4CC-1D6D-41BF-AB25-C373501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5D943B0-320A-41FA-959C-78D00EF5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60D225D-6D07-47FE-8C23-5162A3D5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4EAFCFE-C92B-49F3-99FF-207624A3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B38A054-C1A5-4A8B-959B-5241D7A0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27FD2B3-42FE-4A16-B544-58102FEB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CD3AE67-5224-499F-8E9F-7C8AA83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478B116-5C70-4690-BF1E-B5F38663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2DD0EB3-E750-4A88-B486-017F7498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F5A8BA8-4FE6-481B-A68E-F479E0EF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6AC4405-7DB8-40C2-90D5-3E96FDD1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B3329B3-4625-4925-A6C9-CD1182E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4946CE3-AF14-4D86-BCEC-E04E613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FE31569-CA2B-42E8-B82D-0267619A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3FE2EF9-6A1B-451C-971C-4C9E0C3E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A5E20B4-F285-4258-8CDA-DD634CCD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653B0BE-84D9-48A8-A1D2-7A94E94C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45120B0-900F-4ADF-9186-0072166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CCD1745-ABA4-4A2A-AAE1-5CA9B902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AFF01C8-231B-475F-99FD-57607856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CABE2F2-8866-41C5-AC4B-B5C2AF2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E3996E0-4574-4C4D-BA66-50637297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48E7BCF-BAC2-4EB5-A95A-2EBE791F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604B2A6-1C6F-45D1-87A5-23720F1C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F6291A5-219F-41C2-8552-B728386C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7E70D6F-0B75-429F-81D1-FF8BDDB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A46F-4128-4B4B-A5CA-E28A7E0A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AC1FA2E-B265-4D88-993E-CB7EFD28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ADE98D6-7D5D-46CC-A9A9-B1C9E1F3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99B9209-0D31-4856-A8D5-DC1A5889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8E230FA0-0C6A-4D13-AFC3-846DA65B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C76581B-045F-462F-9183-2728150B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FF46519-229C-448B-B47B-8516FBD3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32BA428-2850-4B40-8472-136A0CE6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6049D76-8FB8-43DB-BDAF-25C0A21A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F65EF3A-715E-4255-B7E1-C1C61FAB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D9987AA-E30C-4C97-B0FE-5DFAA17E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2790-7FA1-4762-8EDF-9C2E50CB06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87F1-A6C0-41F8-A15F-3643BF1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2648E1F-63EF-4D63-8B05-C82D083F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80BC3E1-576E-4D64-B76B-DB37FA5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701FDE28-6450-4981-B3CF-A43E932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B2C7FC3-58C7-4177-BB15-7FBDACF8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3DC8D5C-F4F7-40D7-B6B9-528AD9C1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849BA92-3B9A-46BC-A9A0-34718CA1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6A31582-0096-4E2F-9B73-26EFEFCC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3EF7DC1-0BBD-409F-82F6-88CD2C38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5FB9B37-E43D-401F-A20D-6FF83C3D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69FE455-EDC8-4781-8B86-DFE1B81B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25FE-C949-4C5E-BD15-181020BA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59477E8-E57B-44B3-B928-CEFFF951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C613B47-07FE-4347-BEC5-EFCD4771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9E222A2-3C20-4D7F-B93C-225295FB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A83C151-AF49-4495-8A4A-66613A97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ACA7880-F54C-43C0-84E4-F065AA6E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B2E1859-8E1D-4F89-A392-8DDF9A19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BA23C77-9A76-4A24-8484-EBC19EDF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3A732C7-7C1E-4F01-8F22-1BC1B8B7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3CDC9E-A3FE-4B50-AB80-CCC64AF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CB08185-89F6-42E1-8CF3-9A43840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A6B4-5F25-478A-9F4F-2E61DBB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7F976AA-32D2-423A-B187-3193123A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D764A3A-D032-457A-986A-A1F959D1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0B27C02-EF12-4573-A19E-60E2BCC6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3351935-8A81-4710-81D4-65DF5066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7F07A75-23BB-490D-9A70-830B7A6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09DB0CF-7D60-4614-8482-23019DD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A7D72F0-A0E0-4AFF-9E49-28F7F7EC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2A67C0F-70C9-4306-A51F-335C0E2B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B37A4DF-66CE-4137-BB45-59947205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BF15198-07E7-467E-A89C-4205508A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E6E5-A86E-4BCD-995D-C4C6471F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92D5658-5006-49BE-887C-70417B5A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CF6F229-D66C-476E-AE51-95508088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B45AA67-31F4-4DA7-A721-BD701242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9A817C2-A193-49C3-AEC1-EE81F861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555513C-5AA2-483F-B594-BDD5D9ED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A473D54-A12A-4B75-B294-A1649E7B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F452810-EA56-40B4-96B6-43B3E530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7921E37-86C2-4C8C-BCE7-7B398465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E709EB7-96F3-4D72-98C5-620BE8E7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278096F-A439-46B8-8C2A-CAF7B45A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D19D-FF3A-4A38-9C49-2BC34C9E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1F46C0B-20D4-4913-B73C-EBE199F1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A96F8EE-2027-4493-AF4D-A8825E3B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B2878C2-F1DC-4912-A4DE-7DDCCE87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D2B0831-5666-4349-AE06-58B71537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6C504CB-27E1-4813-ABEC-1B759081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D0FCC24-2D49-44BF-80EB-28AD8050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FCA622E-4EDD-4F0C-9621-38D6C7D6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2BBAB3D-33F5-425A-8E24-142A25BE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E4B7712-6BE8-48EF-832A-557FB7F9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BEE64D9-789C-499E-8965-D39C198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0E02-1691-409D-B2D1-75EA29DA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30772D3-048B-4EAE-B52E-B30EA399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5DC1DCF-20A4-4CD2-B7B8-7A8061B9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19673E2-C5C4-4817-B27A-CF0FE435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BBE57C3-2EDA-49C8-8916-58C7D9BA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6ADDBF6-AF80-4236-BB9A-DC3153C4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5472A5A-C355-4327-998F-8B9BF068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C3BA350-2679-453B-81E4-A89572EF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84E243A-5854-4B7C-9358-53C01E61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7DC2AEE-4841-4A99-9FDF-484ABE51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E2D3BB4-111B-4415-BAD7-B31DE66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A4BF-1B9C-4F2C-8961-F8EE522A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16EAAC1-97BB-4FD1-AA8E-01AADD5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40422B0-FA5B-4E68-B311-F928D645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16D6B0E-1EDE-4D3D-A8CC-D19D8F5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50D6E18-20F9-4B13-9A69-DFF0C250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998A9EA6-DD6A-4E4C-B48F-6439C365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B28601B-3F15-45F6-8884-8237FDA2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F1A6316-33A3-4C76-9947-9EBA5F9D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B02AF5C-6B53-4D89-A23C-8E0D4F59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FE49FB8-14CA-4B7A-A19D-634795F7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376E185-5D7C-4E55-9B6D-96621D02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C05A-C943-4CD6-AE84-9552EA5E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85A2AF2-2D7F-4699-AB2A-98D01556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2DB0AC1-A71B-47B2-BE6F-DCCAED7C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BCC1A69-F432-470A-A946-F1C87ED0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1837284-7B87-46F7-B6A2-A9BDB1FA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B09E0C54-5A54-41AC-8F0F-19924AAA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5023104-CE93-4E9C-B021-3125EFC0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D89EFEE-F9E7-4A4F-9067-6799BE92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F585A3E-5295-4926-AEA8-7E81CCCB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01DE6A6-2AC4-46BE-B96D-DBF94983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F388F89-951F-4DDB-AC81-E810EAFF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25D9-C70E-4FC8-9541-F2779607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36DAA91-629D-4AB9-B472-542D8915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A28A048-7F72-4345-9ED6-A97F6B9E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92102EB-195D-4893-B846-B83F7763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DEA1441-61CE-4AF5-9C46-4D8C93A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4D65924-B602-4B00-99C8-7A1953D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79F56E0-8355-4923-92EE-2010187C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A35357F-4917-4DCA-B848-19A4298B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E5129B6-0FC5-409D-A3F8-99C6BDFD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A141DD6-4812-4205-AFFD-6DBCC961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4913112-3C85-4579-8A97-9A2A7B3F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B95-93EA-47D4-A5B9-619A75E5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4E6A5C4-40C2-4E48-B2B0-8235B9A5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07F6DA1-5A14-48FE-857C-353A198A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C57A2EE-8C61-4747-8E12-DE252FC1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8F6DAC8-8416-43CA-AA53-5B814CA4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486F234-ED73-4FA5-ACAA-04D08F61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6AA06A1-D4D9-4290-8EC9-0EDA682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618EB76-5A58-4DBB-944F-94366EA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1DE4540-1473-4174-A112-1F1A6A1C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072005C-0DBA-49E3-84FC-A5F4564C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3A7199A-D5BC-438D-AC55-7735E2EB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4503-A2E1-44AD-81CD-37D237F43A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6AEC-567C-4C8D-B123-266DE5E1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B446F39-35F4-4806-87F2-E0D28662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34BE078-D864-459D-8F0E-67494D4C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5428947-0039-49B0-BA5D-92A7FB59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9EAC45F-31CB-4A61-91F0-F8AF7B28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539CEB3-DA8B-4DA3-9082-5BEA34BF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DB039EB-FDDA-4017-BAC0-4D99F4B0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7B25CA1-D8AD-4C98-A796-C5EF1266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E1EF9C4-7405-40B6-893B-AB2AB07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CC2758D-DF82-47C1-8678-906ECE2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495D718-748D-48EE-BC12-4A3AAEC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70394-664E-4DBF-8CC4-1E636F23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FA792AC-6FBF-4293-A71B-774CF737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B2BE2AD-E926-4AEA-953F-864A9563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53C4FB4-7AB3-409A-A3DE-F485231E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F0A2F84-4A7F-42E3-A6FB-D149CD79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5667C60-EADD-47F1-B3A0-EF55BF0C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EFAA6BC-D99F-4ADC-80B1-05DC2CC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518B500-E1D0-46D7-B8BF-F50771BC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37381D5-DF52-4184-94A9-7BDD9B73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C84F750-32C2-493A-A57F-DC12577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D766542-0F2F-484E-94BB-C974978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85BF-77F0-4A72-A3F6-35CB9FAB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DCD1894-6794-419B-9BB7-4DAAF920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A32B749-1D97-4870-B087-D5AA1D92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447DE2C-BD41-41AE-8C08-5C58E475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D694F5A-E9AC-413A-845D-A1622569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9379AF4-614A-4A08-9708-A725ABD4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0F44-4B60-440B-B389-92F193BC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EE7A-3652-46E2-8877-95E6D824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11462-CBB5-46BB-9778-18DBD72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A506-B8E6-4D73-B66A-E66596A3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F56C3-AADA-4DFB-8900-A810B454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1629-BCAF-4A67-8C5B-9D9F698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7416-BCAC-4BF3-B003-D3FE67F2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9B6C-D6FE-4AC5-B5AC-9BEBDEF80C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DD2E-9080-452E-843E-D6712B40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ED40-689A-4ADA-99C5-BE227C08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0005-BD49-4F4D-9431-B627D931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85459-9677-4F5B-9B37-C2B9D17B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3C37-9853-4014-A09C-39472505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1869-D4DE-442E-9233-B74517F8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60EA9-D307-40D1-BFDB-E17EC80D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2596-70C7-433B-8A9A-5ECB5F1C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32B0-066D-474E-9789-A14127C2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3CAD-4022-4966-808F-8F55E3A1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EC1B-B080-4A6C-9F83-22B732B5F6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AFDF-1BB8-411C-8E51-0947560D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5077-19D9-4607-ABA2-1E58D1C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D514-85E5-45CC-AE9A-C9290CE5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80F0-B25D-4237-89C8-B62AD56E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52BA-F2B9-4F76-BBCA-0A22D9B9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51003-1FA9-4798-BF96-E989156B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779E1-4A6D-4990-884C-A58287F4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C4DC-3AD1-4F4E-A624-2C6A8418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08304-A526-450C-A2D3-22BC95D5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CE7A6-ADF9-47D9-8565-827CF69E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C162-5CD3-4306-923F-9BADD72160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7D825-D123-4847-9F81-66404C64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FAFE4-D82B-48E3-A5F1-F7840928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A20F-6285-4567-AC42-D9BDAF42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3D286-EB3A-4267-8FF1-095CAFF1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E14B6-4CF0-47A2-A2D0-CC991D52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0497-53E3-474C-BE3A-8EDA4692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A0AF5-2C9A-488F-A63F-C6C2943D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105E-BFCF-4DB3-8F63-BEF487E5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C9A31-8547-4B33-A8A5-2C84A78A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4BB5C-0117-42F7-BB35-44FB4F25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virtuelle-ph.at/eLectures-takeaway" TargetMode="External"/><Relationship Id="rId5" Type="http://schemas.openxmlformats.org/officeDocument/2006/relationships/hyperlink" Target="http://www.virtuelle-ph.at/electures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virtuelle-ph.at/eLectures-takeaway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493.xml"/><Relationship Id="rId9" Type="http://schemas.openxmlformats.org/officeDocument/2006/relationships/slideLayout" Target="../slideLayouts/slideLayout494.xml"/><Relationship Id="rId10" Type="http://schemas.openxmlformats.org/officeDocument/2006/relationships/slideLayout" Target="../slideLayouts/slideLayout495.xml"/><Relationship Id="rId11" Type="http://schemas.openxmlformats.org/officeDocument/2006/relationships/slideLayout" Target="../slideLayouts/slideLayout496.xml"/><Relationship Id="rId12" Type="http://schemas.openxmlformats.org/officeDocument/2006/relationships/slideLayout" Target="../slideLayouts/slideLayout497.xml"/><Relationship Id="rId13" Type="http://schemas.openxmlformats.org/officeDocument/2006/relationships/slideLayout" Target="../slideLayouts/slideLayout498.xml"/><Relationship Id="rId14" Type="http://schemas.openxmlformats.org/officeDocument/2006/relationships/slideLayout" Target="../slideLayouts/slideLayout499.xml"/><Relationship Id="rId15" Type="http://schemas.openxmlformats.org/officeDocument/2006/relationships/slideLayout" Target="../slideLayouts/slideLayout500.xml"/><Relationship Id="rId16" Type="http://schemas.openxmlformats.org/officeDocument/2006/relationships/slideLayout" Target="../slideLayouts/slideLayout501.xml"/><Relationship Id="rId17" Type="http://schemas.openxmlformats.org/officeDocument/2006/relationships/slideLayout" Target="../slideLayouts/slideLayout502.xml"/><Relationship Id="rId18" Type="http://schemas.openxmlformats.org/officeDocument/2006/relationships/slideLayout" Target="../slideLayouts/slideLayout503.xml"/><Relationship Id="rId19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05.xml"/><Relationship Id="rId8" Type="http://schemas.openxmlformats.org/officeDocument/2006/relationships/slideLayout" Target="../slideLayouts/slideLayout506.xml"/><Relationship Id="rId9" Type="http://schemas.openxmlformats.org/officeDocument/2006/relationships/slideLayout" Target="../slideLayouts/slideLayout507.xml"/><Relationship Id="rId10" Type="http://schemas.openxmlformats.org/officeDocument/2006/relationships/slideLayout" Target="../slideLayouts/slideLayout508.xml"/><Relationship Id="rId11" Type="http://schemas.openxmlformats.org/officeDocument/2006/relationships/slideLayout" Target="../slideLayouts/slideLayout509.xml"/><Relationship Id="rId12" Type="http://schemas.openxmlformats.org/officeDocument/2006/relationships/slideLayout" Target="../slideLayouts/slideLayout510.xml"/><Relationship Id="rId13" Type="http://schemas.openxmlformats.org/officeDocument/2006/relationships/slideLayout" Target="../slideLayouts/slideLayout511.xml"/><Relationship Id="rId14" Type="http://schemas.openxmlformats.org/officeDocument/2006/relationships/slideLayout" Target="../slideLayouts/slideLayout512.xml"/><Relationship Id="rId15" Type="http://schemas.openxmlformats.org/officeDocument/2006/relationships/slideLayout" Target="../slideLayouts/slideLayout513.xml"/><Relationship Id="rId16" Type="http://schemas.openxmlformats.org/officeDocument/2006/relationships/slideLayout" Target="../slideLayouts/slideLayout514.xml"/><Relationship Id="rId17" Type="http://schemas.openxmlformats.org/officeDocument/2006/relationships/slideLayout" Target="../slideLayouts/slideLayout515.xml"/><Relationship Id="rId18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17.xml"/><Relationship Id="rId8" Type="http://schemas.openxmlformats.org/officeDocument/2006/relationships/slideLayout" Target="../slideLayouts/slideLayout518.xml"/><Relationship Id="rId9" Type="http://schemas.openxmlformats.org/officeDocument/2006/relationships/slideLayout" Target="../slideLayouts/slideLayout519.xml"/><Relationship Id="rId10" Type="http://schemas.openxmlformats.org/officeDocument/2006/relationships/slideLayout" Target="../slideLayouts/slideLayout520.xml"/><Relationship Id="rId11" Type="http://schemas.openxmlformats.org/officeDocument/2006/relationships/slideLayout" Target="../slideLayouts/slideLayout521.xml"/><Relationship Id="rId12" Type="http://schemas.openxmlformats.org/officeDocument/2006/relationships/slideLayout" Target="../slideLayouts/slideLayout522.xml"/><Relationship Id="rId13" Type="http://schemas.openxmlformats.org/officeDocument/2006/relationships/slideLayout" Target="../slideLayouts/slideLayout523.xml"/><Relationship Id="rId14" Type="http://schemas.openxmlformats.org/officeDocument/2006/relationships/slideLayout" Target="../slideLayouts/slideLayout524.xml"/><Relationship Id="rId15" Type="http://schemas.openxmlformats.org/officeDocument/2006/relationships/slideLayout" Target="../slideLayouts/slideLayout525.xml"/><Relationship Id="rId16" Type="http://schemas.openxmlformats.org/officeDocument/2006/relationships/slideLayout" Target="../slideLayouts/slideLayout526.xml"/><Relationship Id="rId17" Type="http://schemas.openxmlformats.org/officeDocument/2006/relationships/slideLayout" Target="../slideLayouts/slideLayout527.xml"/><Relationship Id="rId18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29.xml"/><Relationship Id="rId8" Type="http://schemas.openxmlformats.org/officeDocument/2006/relationships/slideLayout" Target="../slideLayouts/slideLayout530.xml"/><Relationship Id="rId9" Type="http://schemas.openxmlformats.org/officeDocument/2006/relationships/slideLayout" Target="../slideLayouts/slideLayout531.xml"/><Relationship Id="rId10" Type="http://schemas.openxmlformats.org/officeDocument/2006/relationships/slideLayout" Target="../slideLayouts/slideLayout532.xml"/><Relationship Id="rId11" Type="http://schemas.openxmlformats.org/officeDocument/2006/relationships/slideLayout" Target="../slideLayouts/slideLayout533.xml"/><Relationship Id="rId12" Type="http://schemas.openxmlformats.org/officeDocument/2006/relationships/slideLayout" Target="../slideLayouts/slideLayout534.xml"/><Relationship Id="rId13" Type="http://schemas.openxmlformats.org/officeDocument/2006/relationships/slideLayout" Target="../slideLayouts/slideLayout535.xml"/><Relationship Id="rId14" Type="http://schemas.openxmlformats.org/officeDocument/2006/relationships/slideLayout" Target="../slideLayouts/slideLayout536.xml"/><Relationship Id="rId15" Type="http://schemas.openxmlformats.org/officeDocument/2006/relationships/slideLayout" Target="../slideLayouts/slideLayout537.xml"/><Relationship Id="rId16" Type="http://schemas.openxmlformats.org/officeDocument/2006/relationships/slideLayout" Target="../slideLayouts/slideLayout538.xml"/><Relationship Id="rId17" Type="http://schemas.openxmlformats.org/officeDocument/2006/relationships/slideLayout" Target="../slideLayouts/slideLayout539.xml"/><Relationship Id="rId18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53.xml"/><Relationship Id="rId8" Type="http://schemas.openxmlformats.org/officeDocument/2006/relationships/slideLayout" Target="../slideLayouts/slideLayout554.xml"/><Relationship Id="rId9" Type="http://schemas.openxmlformats.org/officeDocument/2006/relationships/slideLayout" Target="../slideLayouts/slideLayout555.xml"/><Relationship Id="rId10" Type="http://schemas.openxmlformats.org/officeDocument/2006/relationships/slideLayout" Target="../slideLayouts/slideLayout556.xml"/><Relationship Id="rId11" Type="http://schemas.openxmlformats.org/officeDocument/2006/relationships/slideLayout" Target="../slideLayouts/slideLayout557.xml"/><Relationship Id="rId12" Type="http://schemas.openxmlformats.org/officeDocument/2006/relationships/slideLayout" Target="../slideLayouts/slideLayout558.xml"/><Relationship Id="rId13" Type="http://schemas.openxmlformats.org/officeDocument/2006/relationships/slideLayout" Target="../slideLayouts/slideLayout559.xml"/><Relationship Id="rId14" Type="http://schemas.openxmlformats.org/officeDocument/2006/relationships/slideLayout" Target="../slideLayouts/slideLayout560.xml"/><Relationship Id="rId15" Type="http://schemas.openxmlformats.org/officeDocument/2006/relationships/slideLayout" Target="../slideLayouts/slideLayout561.xml"/><Relationship Id="rId16" Type="http://schemas.openxmlformats.org/officeDocument/2006/relationships/slideLayout" Target="../slideLayouts/slideLayout562.xml"/><Relationship Id="rId17" Type="http://schemas.openxmlformats.org/officeDocument/2006/relationships/slideLayout" Target="../slideLayouts/slideLayout563.xml"/><Relationship Id="rId18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65.xml"/><Relationship Id="rId8" Type="http://schemas.openxmlformats.org/officeDocument/2006/relationships/slideLayout" Target="../slideLayouts/slideLayout566.xml"/><Relationship Id="rId9" Type="http://schemas.openxmlformats.org/officeDocument/2006/relationships/slideLayout" Target="../slideLayouts/slideLayout567.xml"/><Relationship Id="rId10" Type="http://schemas.openxmlformats.org/officeDocument/2006/relationships/slideLayout" Target="../slideLayouts/slideLayout568.xml"/><Relationship Id="rId11" Type="http://schemas.openxmlformats.org/officeDocument/2006/relationships/slideLayout" Target="../slideLayouts/slideLayout569.xml"/><Relationship Id="rId12" Type="http://schemas.openxmlformats.org/officeDocument/2006/relationships/slideLayout" Target="../slideLayouts/slideLayout570.xml"/><Relationship Id="rId13" Type="http://schemas.openxmlformats.org/officeDocument/2006/relationships/slideLayout" Target="../slideLayouts/slideLayout571.xml"/><Relationship Id="rId14" Type="http://schemas.openxmlformats.org/officeDocument/2006/relationships/slideLayout" Target="../slideLayouts/slideLayout572.xml"/><Relationship Id="rId15" Type="http://schemas.openxmlformats.org/officeDocument/2006/relationships/slideLayout" Target="../slideLayouts/slideLayout573.xml"/><Relationship Id="rId16" Type="http://schemas.openxmlformats.org/officeDocument/2006/relationships/slideLayout" Target="../slideLayouts/slideLayout574.xml"/><Relationship Id="rId17" Type="http://schemas.openxmlformats.org/officeDocument/2006/relationships/slideLayout" Target="../slideLayouts/slideLayout575.xml"/><Relationship Id="rId18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77.xml"/><Relationship Id="rId8" Type="http://schemas.openxmlformats.org/officeDocument/2006/relationships/slideLayout" Target="../slideLayouts/slideLayout578.xml"/><Relationship Id="rId9" Type="http://schemas.openxmlformats.org/officeDocument/2006/relationships/slideLayout" Target="../slideLayouts/slideLayout579.xml"/><Relationship Id="rId10" Type="http://schemas.openxmlformats.org/officeDocument/2006/relationships/slideLayout" Target="../slideLayouts/slideLayout580.xml"/><Relationship Id="rId11" Type="http://schemas.openxmlformats.org/officeDocument/2006/relationships/slideLayout" Target="../slideLayouts/slideLayout581.xml"/><Relationship Id="rId12" Type="http://schemas.openxmlformats.org/officeDocument/2006/relationships/slideLayout" Target="../slideLayouts/slideLayout582.xml"/><Relationship Id="rId13" Type="http://schemas.openxmlformats.org/officeDocument/2006/relationships/slideLayout" Target="../slideLayouts/slideLayout583.xml"/><Relationship Id="rId14" Type="http://schemas.openxmlformats.org/officeDocument/2006/relationships/slideLayout" Target="../slideLayouts/slideLayout584.xml"/><Relationship Id="rId15" Type="http://schemas.openxmlformats.org/officeDocument/2006/relationships/slideLayout" Target="../slideLayouts/slideLayout585.xml"/><Relationship Id="rId16" Type="http://schemas.openxmlformats.org/officeDocument/2006/relationships/slideLayout" Target="../slideLayouts/slideLayout586.xml"/><Relationship Id="rId17" Type="http://schemas.openxmlformats.org/officeDocument/2006/relationships/slideLayout" Target="../slideLayouts/slideLayout587.xml"/><Relationship Id="rId18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89.xml"/><Relationship Id="rId8" Type="http://schemas.openxmlformats.org/officeDocument/2006/relationships/slideLayout" Target="../slideLayouts/slideLayout590.xml"/><Relationship Id="rId9" Type="http://schemas.openxmlformats.org/officeDocument/2006/relationships/slideLayout" Target="../slideLayouts/slideLayout591.xml"/><Relationship Id="rId10" Type="http://schemas.openxmlformats.org/officeDocument/2006/relationships/slideLayout" Target="../slideLayouts/slideLayout592.xml"/><Relationship Id="rId11" Type="http://schemas.openxmlformats.org/officeDocument/2006/relationships/slideLayout" Target="../slideLayouts/slideLayout593.xml"/><Relationship Id="rId12" Type="http://schemas.openxmlformats.org/officeDocument/2006/relationships/slideLayout" Target="../slideLayouts/slideLayout594.xml"/><Relationship Id="rId13" Type="http://schemas.openxmlformats.org/officeDocument/2006/relationships/slideLayout" Target="../slideLayouts/slideLayout595.xml"/><Relationship Id="rId14" Type="http://schemas.openxmlformats.org/officeDocument/2006/relationships/slideLayout" Target="../slideLayouts/slideLayout596.xml"/><Relationship Id="rId15" Type="http://schemas.openxmlformats.org/officeDocument/2006/relationships/slideLayout" Target="../slideLayouts/slideLayout597.xml"/><Relationship Id="rId16" Type="http://schemas.openxmlformats.org/officeDocument/2006/relationships/slideLayout" Target="../slideLayouts/slideLayout598.xml"/><Relationship Id="rId17" Type="http://schemas.openxmlformats.org/officeDocument/2006/relationships/slideLayout" Target="../slideLayouts/slideLayout599.xml"/><Relationship Id="rId18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601.xml"/><Relationship Id="rId8" Type="http://schemas.openxmlformats.org/officeDocument/2006/relationships/slideLayout" Target="../slideLayouts/slideLayout602.xml"/><Relationship Id="rId9" Type="http://schemas.openxmlformats.org/officeDocument/2006/relationships/slideLayout" Target="../slideLayouts/slideLayout603.xml"/><Relationship Id="rId10" Type="http://schemas.openxmlformats.org/officeDocument/2006/relationships/slideLayout" Target="../slideLayouts/slideLayout604.xml"/><Relationship Id="rId11" Type="http://schemas.openxmlformats.org/officeDocument/2006/relationships/slideLayout" Target="../slideLayouts/slideLayout605.xml"/><Relationship Id="rId12" Type="http://schemas.openxmlformats.org/officeDocument/2006/relationships/slideLayout" Target="../slideLayouts/slideLayout606.xml"/><Relationship Id="rId13" Type="http://schemas.openxmlformats.org/officeDocument/2006/relationships/slideLayout" Target="../slideLayouts/slideLayout607.xml"/><Relationship Id="rId14" Type="http://schemas.openxmlformats.org/officeDocument/2006/relationships/slideLayout" Target="../slideLayouts/slideLayout608.xml"/><Relationship Id="rId15" Type="http://schemas.openxmlformats.org/officeDocument/2006/relationships/slideLayout" Target="../slideLayouts/slideLayout609.xml"/><Relationship Id="rId16" Type="http://schemas.openxmlformats.org/officeDocument/2006/relationships/slideLayout" Target="../slideLayouts/slideLayout610.xml"/><Relationship Id="rId17" Type="http://schemas.openxmlformats.org/officeDocument/2006/relationships/slideLayout" Target="../slideLayouts/slideLayout611.xml"/><Relationship Id="rId18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613.xml"/><Relationship Id="rId8" Type="http://schemas.openxmlformats.org/officeDocument/2006/relationships/slideLayout" Target="../slideLayouts/slideLayout614.xml"/><Relationship Id="rId9" Type="http://schemas.openxmlformats.org/officeDocument/2006/relationships/slideLayout" Target="../slideLayouts/slideLayout615.xml"/><Relationship Id="rId10" Type="http://schemas.openxmlformats.org/officeDocument/2006/relationships/slideLayout" Target="../slideLayouts/slideLayout616.xml"/><Relationship Id="rId11" Type="http://schemas.openxmlformats.org/officeDocument/2006/relationships/slideLayout" Target="../slideLayouts/slideLayout617.xml"/><Relationship Id="rId12" Type="http://schemas.openxmlformats.org/officeDocument/2006/relationships/slideLayout" Target="../slideLayouts/slideLayout618.xml"/><Relationship Id="rId13" Type="http://schemas.openxmlformats.org/officeDocument/2006/relationships/slideLayout" Target="../slideLayouts/slideLayout619.xml"/><Relationship Id="rId14" Type="http://schemas.openxmlformats.org/officeDocument/2006/relationships/slideLayout" Target="../slideLayouts/slideLayout620.xml"/><Relationship Id="rId15" Type="http://schemas.openxmlformats.org/officeDocument/2006/relationships/slideLayout" Target="../slideLayouts/slideLayout621.xml"/><Relationship Id="rId16" Type="http://schemas.openxmlformats.org/officeDocument/2006/relationships/slideLayout" Target="../slideLayouts/slideLayout622.xml"/><Relationship Id="rId17" Type="http://schemas.openxmlformats.org/officeDocument/2006/relationships/slideLayout" Target="../slideLayouts/slideLayout623.xml"/><Relationship Id="rId18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4737-0C96-4D3F-BC60-68287374DA50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E017-5AAB-4E98-9BFA-EF0345F13221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0516-36B5-4B65-B773-6019E8A780B4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DF20-DC58-4A3C-AD5D-0130A9DAA2B3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77B8-4C57-480E-B615-6D9047F37246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F40D-1450-4A44-9BD3-BF9E95F5A120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5CDB-7C04-4F81-8593-0E5E6AF8A676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Num" idx="37"/>
          </p:nvPr>
        </p:nvSpPr>
        <p:spPr>
          <a:xfrm>
            <a:off x="697356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6E13-F124-4793-BE4C-E5ACA11DD153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dt" idx="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ftr" idx="3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40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6358-E8BE-445B-8659-893642AF6845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ftr" idx="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sldNum" idx="43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F961-AC57-4A24-BBE2-515DCEB9BAC7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dt" idx="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ftr" idx="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46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3FD7-A93A-4B66-BA42-923E869383C8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2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FB53-4544-4CC9-B460-F67F575B7210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49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9DE5-0283-454F-A8BA-8DA1B80D8FDE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dt" idx="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ftr" idx="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sldNum" idx="52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A88B-F873-40B8-992F-46F37BA516D2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dt" idx="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ftr" idx="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55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3358-4961-41A2-BD85-C8F6F1A9DD78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dt" idx="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ftr" idx="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sldNum" idx="58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82A3-5896-4072-99C0-4943BBEEBFA8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dt" idx="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ftr" idx="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sldNum" idx="61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5FC0-36D8-479D-813B-C5A958936D75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dt" idx="6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ftr" idx="6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sldNum" idx="64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B266-5605-4BCB-95A6-2C725E2869B3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dt" idx="6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ftr" idx="6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sldNum" idx="67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7F1-9DCE-4CDC-BEA9-95E38D261444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dt" idx="6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ftr" idx="6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sldNum" idx="70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F99E-6226-498A-9B68-2DECE5F7F193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dt" idx="7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ftr" idx="7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Num" idx="73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C259-C525-4238-B9AC-A94B3A165B4F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109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sldNum" idx="74"/>
          </p:nvPr>
        </p:nvSpPr>
        <p:spPr>
          <a:xfrm>
            <a:off x="6973560" y="64929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03A9-A1B9-4BD1-8CC6-B2EF275682AE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Num" idx="3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6A0-AD40-4A7D-97D0-C42BD3B98C47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77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148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77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A5B1-62C1-4D8D-9FA3-89C388B43ED0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189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190" name="PlaceHolder 1"/>
          <p:cNvSpPr>
            <a:spLocks noGrp="1"/>
          </p:cNvSpPr>
          <p:nvPr>
            <p:ph type="dt" idx="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ftr" idx="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80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5A0E-FCB7-467E-8BC5-29A8E311B962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230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 type="dt" idx="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ftr" idx="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Num" idx="83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848C-0465-4029-9DE9-9DA7E55104C1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271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272" name="PlaceHolder 1"/>
          <p:cNvSpPr>
            <a:spLocks noGrp="1"/>
          </p:cNvSpPr>
          <p:nvPr>
            <p:ph type="dt" idx="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ftr" idx="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Num" idx="86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0292-4872-48D0-98F9-28CFDA7D9B9B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1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312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8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ftr" idx="8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89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67DF-7D20-4799-BB63-889484802659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353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354" name="PlaceHolder 1"/>
          <p:cNvSpPr>
            <a:spLocks noGrp="1"/>
          </p:cNvSpPr>
          <p:nvPr>
            <p:ph type="dt" idx="9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ftr" idx="9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Num" idx="92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7104-4F73-41D8-8D90-4C989BFEFCFB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394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395" name="PlaceHolder 1"/>
          <p:cNvSpPr>
            <a:spLocks noGrp="1"/>
          </p:cNvSpPr>
          <p:nvPr>
            <p:ph type="dt" idx="9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ftr" idx="9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sldNum" idx="95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C34D-A5B6-4146-8C56-B0F1A5773E1A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435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436" name="PlaceHolder 1"/>
          <p:cNvSpPr>
            <a:spLocks noGrp="1"/>
          </p:cNvSpPr>
          <p:nvPr>
            <p:ph type="dt" idx="9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ftr" idx="9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sldNum" idx="98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4E64-4260-4BA4-9944-600EE7628C28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476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477" name="PlaceHolder 1"/>
          <p:cNvSpPr>
            <a:spLocks noGrp="1"/>
          </p:cNvSpPr>
          <p:nvPr>
            <p:ph type="dt" idx="9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ftr" idx="10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Num" idx="101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E5E3-1E99-4E4A-A83A-2DB4D272D2E8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517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518" name="PlaceHolder 1"/>
          <p:cNvSpPr>
            <a:spLocks noGrp="1"/>
          </p:cNvSpPr>
          <p:nvPr>
            <p:ph type="dt" idx="10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ftr" idx="10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Num" idx="104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A4C0-C9B1-4F1A-A9CE-4CCBF31D2C62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16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117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 u="sng">
                <a:solidFill>
                  <a:srgbClr val="0563c1"/>
                </a:solidFill>
                <a:uFillTx/>
                <a:latin typeface="Source Sans Pro ExtraLight"/>
                <a:hlinkClick r:id="rId4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feld 14"/>
          <p:cNvSpPr/>
          <p:nvPr/>
        </p:nvSpPr>
        <p:spPr>
          <a:xfrm>
            <a:off x="3490920" y="5316480"/>
            <a:ext cx="46371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 u="sng">
                <a:solidFill>
                  <a:srgbClr val="0563c1"/>
                </a:solidFill>
                <a:uFillTx/>
                <a:latin typeface="Source Sans Pro ExtraLight"/>
                <a:hlinkClick r:id="rId5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Grafik 17" descr=""/>
          <p:cNvPicPr/>
          <p:nvPr/>
        </p:nvPicPr>
        <p:blipFill>
          <a:blip r:embed="rId6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123" name="Grafik 12" descr=""/>
          <p:cNvPicPr/>
          <p:nvPr/>
        </p:nvPicPr>
        <p:blipFill>
          <a:blip r:embed="rId7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124" name="Grafik 13" descr=""/>
          <p:cNvPicPr/>
          <p:nvPr/>
        </p:nvPicPr>
        <p:blipFill>
          <a:blip r:embed="rId8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7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558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559" name="PlaceHolder 1"/>
          <p:cNvSpPr>
            <a:spLocks noGrp="1"/>
          </p:cNvSpPr>
          <p:nvPr>
            <p:ph type="dt" idx="10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ftr" idx="10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Num" idx="107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D807-AE2B-48F9-9A87-871CFA459E7C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Grafik 4" descr=""/>
          <p:cNvPicPr/>
          <p:nvPr/>
        </p:nvPicPr>
        <p:blipFill>
          <a:blip r:embed="rId2"/>
          <a:stretch/>
        </p:blipFill>
        <p:spPr>
          <a:xfrm>
            <a:off x="7650000" y="154080"/>
            <a:ext cx="1325880" cy="1230120"/>
          </a:xfrm>
          <a:prstGeom prst="rect">
            <a:avLst/>
          </a:prstGeom>
          <a:ln w="0">
            <a:noFill/>
          </a:ln>
        </p:spPr>
      </p:pic>
      <p:pic>
        <p:nvPicPr>
          <p:cNvPr id="1599" name="Grafik 6" descr=""/>
          <p:cNvPicPr/>
          <p:nvPr/>
        </p:nvPicPr>
        <p:blipFill>
          <a:blip r:embed="rId3"/>
          <a:stretch/>
        </p:blipFill>
        <p:spPr>
          <a:xfrm>
            <a:off x="257040" y="291960"/>
            <a:ext cx="1811520" cy="71136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dt" idx="10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ftr" idx="10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sldNum" idx="110"/>
          </p:nvPr>
        </p:nvSpPr>
        <p:spPr>
          <a:xfrm>
            <a:off x="7008480" y="6401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C1F0-F743-4E9A-AB2C-41E9BAE4618E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64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164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 u="sng">
                <a:solidFill>
                  <a:srgbClr val="0563c1"/>
                </a:solidFill>
                <a:uFillTx/>
                <a:latin typeface="Source Sans Pro ExtraLight"/>
                <a:hlinkClick r:id="rId4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7" name="Grafik 17" descr=""/>
          <p:cNvPicPr/>
          <p:nvPr/>
        </p:nvPicPr>
        <p:blipFill>
          <a:blip r:embed="rId5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1648" name="Grafik 12" descr=""/>
          <p:cNvPicPr/>
          <p:nvPr/>
        </p:nvPicPr>
        <p:blipFill>
          <a:blip r:embed="rId6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1649" name="Grafik 13" descr=""/>
          <p:cNvPicPr/>
          <p:nvPr/>
        </p:nvPicPr>
        <p:blipFill>
          <a:blip r:embed="rId7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1650" name="PlaceHolder 1"/>
          <p:cNvSpPr>
            <a:spLocks noGrp="1"/>
          </p:cNvSpPr>
          <p:nvPr>
            <p:ph type="dt" idx="11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ftr" idx="11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 type="sldNum" idx="11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BC91-9B82-4FF5-9641-DB777DAF087C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8"/>
    <p:sldLayoutId id="2147484183" r:id="rId9"/>
    <p:sldLayoutId id="2147484184" r:id="rId10"/>
    <p:sldLayoutId id="2147484185" r:id="rId11"/>
    <p:sldLayoutId id="2147484186" r:id="rId12"/>
    <p:sldLayoutId id="2147484187" r:id="rId13"/>
    <p:sldLayoutId id="2147484188" r:id="rId14"/>
    <p:sldLayoutId id="2147484189" r:id="rId15"/>
    <p:sldLayoutId id="2147484190" r:id="rId16"/>
    <p:sldLayoutId id="2147484191" r:id="rId17"/>
    <p:sldLayoutId id="2147484192" r:id="rId18"/>
    <p:sldLayoutId id="2147484193" r:id="rId19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69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169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169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169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1700" name="PlaceHolder 1"/>
          <p:cNvSpPr>
            <a:spLocks noGrp="1"/>
          </p:cNvSpPr>
          <p:nvPr>
            <p:ph type="dt" idx="11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ftr" idx="11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 type="sldNum" idx="11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26D3-6722-432B-AFEA-2FFC11E71F24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7"/>
    <p:sldLayoutId id="2147484196" r:id="rId8"/>
    <p:sldLayoutId id="2147484197" r:id="rId9"/>
    <p:sldLayoutId id="2147484198" r:id="rId10"/>
    <p:sldLayoutId id="2147484199" r:id="rId11"/>
    <p:sldLayoutId id="2147484200" r:id="rId12"/>
    <p:sldLayoutId id="2147484201" r:id="rId13"/>
    <p:sldLayoutId id="2147484202" r:id="rId14"/>
    <p:sldLayoutId id="2147484203" r:id="rId15"/>
    <p:sldLayoutId id="2147484204" r:id="rId16"/>
    <p:sldLayoutId id="2147484205" r:id="rId17"/>
    <p:sldLayoutId id="2147484206" r:id="rId18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74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174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174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174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dt" idx="11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ftr" idx="11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sldNum" idx="11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91BB-E8E2-4955-9C87-B191D46F3DA4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7"/>
    <p:sldLayoutId id="2147484209" r:id="rId8"/>
    <p:sldLayoutId id="2147484210" r:id="rId9"/>
    <p:sldLayoutId id="2147484211" r:id="rId10"/>
    <p:sldLayoutId id="2147484212" r:id="rId11"/>
    <p:sldLayoutId id="2147484213" r:id="rId12"/>
    <p:sldLayoutId id="2147484214" r:id="rId13"/>
    <p:sldLayoutId id="2147484215" r:id="rId14"/>
    <p:sldLayoutId id="2147484216" r:id="rId15"/>
    <p:sldLayoutId id="2147484217" r:id="rId16"/>
    <p:sldLayoutId id="2147484218" r:id="rId17"/>
    <p:sldLayoutId id="2147484219" r:id="rId18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79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179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179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179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1800" name="PlaceHolder 1"/>
          <p:cNvSpPr>
            <a:spLocks noGrp="1"/>
          </p:cNvSpPr>
          <p:nvPr>
            <p:ph type="dt" idx="12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ftr" idx="12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 type="sldNum" idx="12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52AD-927B-40DD-B494-0B7F92134D30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7"/>
    <p:sldLayoutId id="2147484222" r:id="rId8"/>
    <p:sldLayoutId id="2147484223" r:id="rId9"/>
    <p:sldLayoutId id="2147484224" r:id="rId10"/>
    <p:sldLayoutId id="2147484225" r:id="rId11"/>
    <p:sldLayoutId id="2147484226" r:id="rId12"/>
    <p:sldLayoutId id="2147484227" r:id="rId13"/>
    <p:sldLayoutId id="2147484228" r:id="rId14"/>
    <p:sldLayoutId id="2147484229" r:id="rId15"/>
    <p:sldLayoutId id="2147484230" r:id="rId16"/>
    <p:sldLayoutId id="2147484231" r:id="rId17"/>
    <p:sldLayoutId id="2147484232" r:id="rId18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84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184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184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184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1850" name="PlaceHolder 1"/>
          <p:cNvSpPr>
            <a:spLocks noGrp="1"/>
          </p:cNvSpPr>
          <p:nvPr>
            <p:ph type="dt" idx="12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ftr" idx="12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 type="sldNum" idx="1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52C4-89D6-47E5-9146-CBE425EEFC7B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89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189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189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189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1900" name="PlaceHolder 1"/>
          <p:cNvSpPr>
            <a:spLocks noGrp="1"/>
          </p:cNvSpPr>
          <p:nvPr>
            <p:ph type="dt" idx="12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 type="ftr" idx="12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 type="sldNum" idx="12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ABC8-5AB3-4426-9962-45BCA022B680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7"/>
    <p:sldLayoutId id="2147484248" r:id="rId8"/>
    <p:sldLayoutId id="2147484249" r:id="rId9"/>
    <p:sldLayoutId id="2147484250" r:id="rId10"/>
    <p:sldLayoutId id="2147484251" r:id="rId11"/>
    <p:sldLayoutId id="2147484252" r:id="rId12"/>
    <p:sldLayoutId id="2147484253" r:id="rId13"/>
    <p:sldLayoutId id="2147484254" r:id="rId14"/>
    <p:sldLayoutId id="2147484255" r:id="rId15"/>
    <p:sldLayoutId id="2147484256" r:id="rId16"/>
    <p:sldLayoutId id="2147484257" r:id="rId17"/>
    <p:sldLayoutId id="2147484258" r:id="rId18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94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194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194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194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1950" name="PlaceHolder 1"/>
          <p:cNvSpPr>
            <a:spLocks noGrp="1"/>
          </p:cNvSpPr>
          <p:nvPr>
            <p:ph type="dt" idx="12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ftr" idx="13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 type="sldNum" idx="13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B3D6-70A3-46E5-93FC-952CC44E2C1C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7"/>
    <p:sldLayoutId id="2147484261" r:id="rId8"/>
    <p:sldLayoutId id="2147484262" r:id="rId9"/>
    <p:sldLayoutId id="2147484263" r:id="rId10"/>
    <p:sldLayoutId id="2147484264" r:id="rId11"/>
    <p:sldLayoutId id="2147484265" r:id="rId12"/>
    <p:sldLayoutId id="2147484266" r:id="rId13"/>
    <p:sldLayoutId id="2147484267" r:id="rId14"/>
    <p:sldLayoutId id="2147484268" r:id="rId15"/>
    <p:sldLayoutId id="2147484269" r:id="rId16"/>
    <p:sldLayoutId id="2147484270" r:id="rId17"/>
    <p:sldLayoutId id="2147484271" r:id="rId18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199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199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199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199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2000" name="PlaceHolder 1"/>
          <p:cNvSpPr>
            <a:spLocks noGrp="1"/>
          </p:cNvSpPr>
          <p:nvPr>
            <p:ph type="dt" idx="13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ftr" idx="13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 type="sldNum" idx="13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C103-FAC5-4F45-89BD-7CE3547E69DB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7"/>
    <p:sldLayoutId id="2147484274" r:id="rId8"/>
    <p:sldLayoutId id="2147484275" r:id="rId9"/>
    <p:sldLayoutId id="2147484276" r:id="rId10"/>
    <p:sldLayoutId id="2147484277" r:id="rId11"/>
    <p:sldLayoutId id="2147484278" r:id="rId12"/>
    <p:sldLayoutId id="2147484279" r:id="rId13"/>
    <p:sldLayoutId id="2147484280" r:id="rId14"/>
    <p:sldLayoutId id="2147484281" r:id="rId15"/>
    <p:sldLayoutId id="2147484282" r:id="rId16"/>
    <p:sldLayoutId id="2147484283" r:id="rId17"/>
    <p:sldLayoutId id="2147484284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795F-0179-462E-AA55-E72BDBE085CB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204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204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204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204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2050" name="PlaceHolder 1"/>
          <p:cNvSpPr>
            <a:spLocks noGrp="1"/>
          </p:cNvSpPr>
          <p:nvPr>
            <p:ph type="dt" idx="1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ftr" idx="13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sldNum" idx="1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82E9-2261-4026-95E4-E32629204AED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7"/>
    <p:sldLayoutId id="2147484287" r:id="rId8"/>
    <p:sldLayoutId id="2147484288" r:id="rId9"/>
    <p:sldLayoutId id="2147484289" r:id="rId10"/>
    <p:sldLayoutId id="2147484290" r:id="rId11"/>
    <p:sldLayoutId id="2147484291" r:id="rId12"/>
    <p:sldLayoutId id="2147484292" r:id="rId13"/>
    <p:sldLayoutId id="2147484293" r:id="rId14"/>
    <p:sldLayoutId id="2147484294" r:id="rId15"/>
    <p:sldLayoutId id="2147484295" r:id="rId16"/>
    <p:sldLayoutId id="2147484296" r:id="rId17"/>
    <p:sldLayoutId id="2147484297" r:id="rId18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209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209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209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209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2100" name="PlaceHolder 1"/>
          <p:cNvSpPr>
            <a:spLocks noGrp="1"/>
          </p:cNvSpPr>
          <p:nvPr>
            <p:ph type="dt" idx="1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ftr" idx="13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 type="sldNum" idx="1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C7E5-6216-4DDD-BD3C-BBF531313F5A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7"/>
    <p:sldLayoutId id="2147484300" r:id="rId8"/>
    <p:sldLayoutId id="2147484301" r:id="rId9"/>
    <p:sldLayoutId id="2147484302" r:id="rId10"/>
    <p:sldLayoutId id="2147484303" r:id="rId11"/>
    <p:sldLayoutId id="2147484304" r:id="rId12"/>
    <p:sldLayoutId id="2147484305" r:id="rId13"/>
    <p:sldLayoutId id="2147484306" r:id="rId14"/>
    <p:sldLayoutId id="2147484307" r:id="rId15"/>
    <p:sldLayoutId id="2147484308" r:id="rId16"/>
    <p:sldLayoutId id="2147484309" r:id="rId17"/>
    <p:sldLayoutId id="2147484310" r:id="rId18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Rechteck 11"/>
          <p:cNvSpPr/>
          <p:nvPr/>
        </p:nvSpPr>
        <p:spPr>
          <a:xfrm>
            <a:off x="0" y="4506840"/>
            <a:ext cx="9144000" cy="23511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0" name="Grafik 12" descr=""/>
          <p:cNvPicPr/>
          <p:nvPr/>
        </p:nvPicPr>
        <p:blipFill>
          <a:blip r:embed="rId2"/>
          <a:stretch/>
        </p:blipFill>
        <p:spPr>
          <a:xfrm>
            <a:off x="374760" y="3824280"/>
            <a:ext cx="1909800" cy="2492280"/>
          </a:xfrm>
          <a:prstGeom prst="rect">
            <a:avLst/>
          </a:prstGeom>
          <a:ln w="0">
            <a:noFill/>
          </a:ln>
        </p:spPr>
      </p:pic>
      <p:pic>
        <p:nvPicPr>
          <p:cNvPr id="2141" name="Grafik 13" descr=""/>
          <p:cNvPicPr/>
          <p:nvPr/>
        </p:nvPicPr>
        <p:blipFill>
          <a:blip r:embed="rId3"/>
          <a:stretch/>
        </p:blipFill>
        <p:spPr>
          <a:xfrm>
            <a:off x="2284560" y="1459080"/>
            <a:ext cx="4574880" cy="2108160"/>
          </a:xfrm>
          <a:prstGeom prst="rect">
            <a:avLst/>
          </a:prstGeom>
          <a:ln w="0">
            <a:noFill/>
          </a:ln>
        </p:spPr>
      </p:pic>
      <p:sp>
        <p:nvSpPr>
          <p:cNvPr id="2142" name="Textfeld 3"/>
          <p:cNvSpPr/>
          <p:nvPr/>
        </p:nvSpPr>
        <p:spPr>
          <a:xfrm>
            <a:off x="3490920" y="4714920"/>
            <a:ext cx="5191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525252"/>
                </a:solidFill>
                <a:latin typeface="Source Sans Pro ExtraLight"/>
              </a:rPr>
              <a:t>Weitere eLectures zu diesem Thema und vielen anderen mehr finden Sie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Rechteck 4"/>
          <p:cNvSpPr/>
          <p:nvPr/>
        </p:nvSpPr>
        <p:spPr>
          <a:xfrm>
            <a:off x="3490920" y="5934240"/>
            <a:ext cx="599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525252"/>
                </a:solidFill>
                <a:latin typeface="Source Sans Pro ExtraLight"/>
              </a:rPr>
              <a:t>Takeaway-Aufzeichnungen unte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-takeaway</a:t>
            </a:r>
            <a:r>
              <a:rPr b="0" lang="de-AT" sz="1800" spc="-1" strike="noStrike">
                <a:solidFill>
                  <a:srgbClr val="000000"/>
                </a:solidFill>
                <a:latin typeface="Source Sans Pro ExtraLigh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Textfeld 14"/>
          <p:cNvSpPr/>
          <p:nvPr/>
        </p:nvSpPr>
        <p:spPr>
          <a:xfrm>
            <a:off x="3490920" y="5316480"/>
            <a:ext cx="463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Source Sans Pro ExtraLight"/>
              </a:rPr>
              <a:t>www.virtuelle-ph.at/electures</a:t>
            </a:r>
            <a:r>
              <a:rPr b="0" lang="de-AT" sz="1500" spc="-1" strike="noStrike">
                <a:solidFill>
                  <a:srgbClr val="000000"/>
                </a:solidFill>
                <a:latin typeface="Source Sans Pro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Ellipse 15"/>
          <p:cNvSpPr/>
          <p:nvPr/>
        </p:nvSpPr>
        <p:spPr>
          <a:xfrm>
            <a:off x="7554960" y="5200560"/>
            <a:ext cx="1127160" cy="1440000"/>
          </a:xfrm>
          <a:prstGeom prst="ellipse">
            <a:avLst/>
          </a:prstGeom>
          <a:solidFill>
            <a:srgbClr val="f8b3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Textfeld 16"/>
          <p:cNvSpPr/>
          <p:nvPr/>
        </p:nvSpPr>
        <p:spPr>
          <a:xfrm rot="1314600">
            <a:off x="7569720" y="578016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Source Sans Pro Black"/>
              </a:rPr>
              <a:t>take@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7" name="Grafik 17" descr=""/>
          <p:cNvPicPr/>
          <p:nvPr/>
        </p:nvPicPr>
        <p:blipFill>
          <a:blip r:embed="rId4">
            <a:biLevel thresh="50000"/>
          </a:blip>
          <a:stretch/>
        </p:blipFill>
        <p:spPr>
          <a:xfrm rot="11264400">
            <a:off x="7970400" y="5484600"/>
            <a:ext cx="565200" cy="393480"/>
          </a:xfrm>
          <a:prstGeom prst="rect">
            <a:avLst/>
          </a:prstGeom>
          <a:ln w="0">
            <a:noFill/>
          </a:ln>
        </p:spPr>
      </p:pic>
      <p:pic>
        <p:nvPicPr>
          <p:cNvPr id="2148" name="Grafik 12" descr=""/>
          <p:cNvPicPr/>
          <p:nvPr/>
        </p:nvPicPr>
        <p:blipFill>
          <a:blip r:embed="rId5"/>
          <a:stretch/>
        </p:blipFill>
        <p:spPr>
          <a:xfrm>
            <a:off x="301680" y="317520"/>
            <a:ext cx="1798560" cy="704880"/>
          </a:xfrm>
          <a:prstGeom prst="rect">
            <a:avLst/>
          </a:prstGeom>
          <a:ln w="0">
            <a:noFill/>
          </a:ln>
        </p:spPr>
      </p:pic>
      <p:pic>
        <p:nvPicPr>
          <p:cNvPr id="2149" name="Grafik 13" descr=""/>
          <p:cNvPicPr/>
          <p:nvPr/>
        </p:nvPicPr>
        <p:blipFill>
          <a:blip r:embed="rId6"/>
          <a:stretch/>
        </p:blipFill>
        <p:spPr>
          <a:xfrm>
            <a:off x="7650000" y="141120"/>
            <a:ext cx="1325880" cy="1230480"/>
          </a:xfrm>
          <a:prstGeom prst="rect">
            <a:avLst/>
          </a:prstGeom>
          <a:ln w="0">
            <a:noFill/>
          </a:ln>
        </p:spPr>
      </p:pic>
      <p:sp>
        <p:nvSpPr>
          <p:cNvPr id="2150" name="PlaceHolder 1"/>
          <p:cNvSpPr>
            <a:spLocks noGrp="1"/>
          </p:cNvSpPr>
          <p:nvPr>
            <p:ph type="dt" idx="1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ftr" idx="1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 type="sldNum" idx="14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B55B-2E4A-4100-9DFB-1E935A4BFD58}" type="slidenum"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7"/>
    <p:sldLayoutId id="2147484313" r:id="rId8"/>
    <p:sldLayoutId id="2147484314" r:id="rId9"/>
    <p:sldLayoutId id="2147484315" r:id="rId10"/>
    <p:sldLayoutId id="2147484316" r:id="rId11"/>
    <p:sldLayoutId id="2147484317" r:id="rId12"/>
    <p:sldLayoutId id="2147484318" r:id="rId13"/>
    <p:sldLayoutId id="2147484319" r:id="rId14"/>
    <p:sldLayoutId id="2147484320" r:id="rId15"/>
    <p:sldLayoutId id="2147484321" r:id="rId16"/>
    <p:sldLayoutId id="2147484322" r:id="rId17"/>
    <p:sldLayoutId id="2147484323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F37B-9563-4655-9F65-933CAF07A449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C18C-7FAD-4DBB-8E34-69C37C792CC4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87A9-F5FC-4FCC-A31D-E0A24C9121AA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hteck 10"/>
          <p:cNvSpPr/>
          <p:nvPr/>
        </p:nvSpPr>
        <p:spPr>
          <a:xfrm>
            <a:off x="0" y="4673520"/>
            <a:ext cx="9144000" cy="218448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79DD-D0A1-4646-93DC-92F17AE48261}" type="slidenum">
              <a:rPr b="0" lang="de-AT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9" name="Gruppieren 2"/>
          <p:cNvGrpSpPr/>
          <p:nvPr/>
        </p:nvGrpSpPr>
        <p:grpSpPr>
          <a:xfrm>
            <a:off x="650880" y="399960"/>
            <a:ext cx="8375760" cy="6586920"/>
            <a:chOff x="650880" y="399960"/>
            <a:chExt cx="8375760" cy="6586920"/>
          </a:xfrm>
        </p:grpSpPr>
        <p:pic>
          <p:nvPicPr>
            <p:cNvPr id="2190" name="Grafik 1" descr=""/>
            <p:cNvPicPr/>
            <p:nvPr/>
          </p:nvPicPr>
          <p:blipFill>
            <a:blip r:embed="rId1"/>
            <a:stretch/>
          </p:blipFill>
          <p:spPr>
            <a:xfrm>
              <a:off x="650880" y="4430160"/>
              <a:ext cx="324576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1" name="Grafik 2" descr=""/>
            <p:cNvPicPr/>
            <p:nvPr/>
          </p:nvPicPr>
          <p:blipFill>
            <a:blip r:embed="rId2"/>
            <a:stretch/>
          </p:blipFill>
          <p:spPr>
            <a:xfrm>
              <a:off x="7265160" y="399960"/>
              <a:ext cx="1366560" cy="10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2" name="Textfeld 1"/>
            <p:cNvSpPr/>
            <p:nvPr/>
          </p:nvSpPr>
          <p:spPr>
            <a:xfrm>
              <a:off x="1831680" y="5247360"/>
              <a:ext cx="719496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4400" spc="-1" strike="noStrike">
                  <a:solidFill>
                    <a:srgbClr val="525252"/>
                  </a:solidFill>
                  <a:latin typeface="Source Sans Pro"/>
                </a:rPr>
                <a:t>Visualisierung im Unterrich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000" spc="-1" strike="noStrike">
                  <a:solidFill>
                    <a:srgbClr val="525252"/>
                  </a:solidFill>
                  <a:latin typeface="Source Sans Pro"/>
                </a:rPr>
                <a:t>Friedrich Saur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Textfeld 1"/>
            <p:cNvSpPr/>
            <p:nvPr/>
          </p:nvSpPr>
          <p:spPr>
            <a:xfrm>
              <a:off x="3875040" y="4551480"/>
              <a:ext cx="69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3600" spc="-1" strike="noStrike">
                  <a:solidFill>
                    <a:srgbClr val="0f7699"/>
                  </a:solidFill>
                  <a:latin typeface="Arial"/>
                  <a:ea typeface="Arial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94" name="Grafik 2" descr=""/>
          <p:cNvPicPr/>
          <p:nvPr/>
        </p:nvPicPr>
        <p:blipFill>
          <a:blip r:embed="rId3"/>
          <a:stretch/>
        </p:blipFill>
        <p:spPr>
          <a:xfrm>
            <a:off x="512640" y="266760"/>
            <a:ext cx="1501920" cy="976320"/>
          </a:xfrm>
          <a:prstGeom prst="rect">
            <a:avLst/>
          </a:prstGeom>
          <a:ln w="0">
            <a:noFill/>
          </a:ln>
        </p:spPr>
      </p:pic>
      <p:pic>
        <p:nvPicPr>
          <p:cNvPr id="2195" name="Grafik 2" descr=""/>
          <p:cNvPicPr/>
          <p:nvPr/>
        </p:nvPicPr>
        <p:blipFill>
          <a:blip r:embed="rId4"/>
          <a:stretch/>
        </p:blipFill>
        <p:spPr>
          <a:xfrm>
            <a:off x="2700360" y="1401840"/>
            <a:ext cx="406224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Concept Maps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Begriffe verbinden und Pfeile beschrift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20" name="Grafik 14" descr=""/>
          <p:cNvPicPr/>
          <p:nvPr/>
        </p:nvPicPr>
        <p:blipFill>
          <a:blip r:embed="rId1"/>
          <a:stretch/>
        </p:blipFill>
        <p:spPr>
          <a:xfrm>
            <a:off x="1319040" y="71280"/>
            <a:ext cx="5985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Concept Maps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Begriffe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erschieb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22" name="Grafik 3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Concept Maps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orführu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sktopfreiga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führung Concept Maps mit VUE</a:t>
            </a:r>
            <a:br>
              <a:rPr sz="3600"/>
            </a:b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sual </a:t>
            </a: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nderstanding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nvironment (VUE)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http://vue.tufts.edu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5" name="Grafik 2" descr=""/>
          <p:cNvPicPr/>
          <p:nvPr/>
        </p:nvPicPr>
        <p:blipFill>
          <a:blip r:embed="rId1"/>
          <a:stretch/>
        </p:blipFill>
        <p:spPr>
          <a:xfrm>
            <a:off x="7074000" y="1623960"/>
            <a:ext cx="1925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Was sind Mindmaps?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Inf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507600" y="264960"/>
            <a:ext cx="4923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Mindmaps sind „Gedankenlandkarten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geprägt von Tony Buz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hierarchisch aufgeba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8" name="Grafik 2" descr=""/>
          <p:cNvPicPr/>
          <p:nvPr/>
        </p:nvPicPr>
        <p:blipFill>
          <a:blip r:embed="rId1"/>
          <a:stretch/>
        </p:blipFill>
        <p:spPr>
          <a:xfrm>
            <a:off x="6399360" y="482760"/>
            <a:ext cx="256212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Mindmaps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Anwendungsmöglichkeit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63880" indent="-263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Referat vorberei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Jahreszusammenfass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Lebenslauf (Planung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1" name="Grafik 2" descr=""/>
          <p:cNvPicPr/>
          <p:nvPr/>
        </p:nvPicPr>
        <p:blipFill>
          <a:blip r:embed="rId1"/>
          <a:stretch/>
        </p:blipFill>
        <p:spPr>
          <a:xfrm>
            <a:off x="1371600" y="2371680"/>
            <a:ext cx="59770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Mindmaps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organgsweise (mit Software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3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423360" indent="-42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Zentralbegriff festl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23360" indent="-42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Begriffe eingeben (als neue Äs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23360" indent="-42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Begriffe sortieren und in die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Hierarchie einord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23360" indent="-42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4" name="Grafik 4" descr=""/>
          <p:cNvPicPr/>
          <p:nvPr/>
        </p:nvPicPr>
        <p:blipFill>
          <a:blip r:embed="rId1"/>
          <a:stretch/>
        </p:blipFill>
        <p:spPr>
          <a:xfrm>
            <a:off x="7000920" y="1884240"/>
            <a:ext cx="21430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Mindmaps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Beispie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36" name="Grafik 2" descr=""/>
          <p:cNvPicPr/>
          <p:nvPr/>
        </p:nvPicPr>
        <p:blipFill>
          <a:blip r:embed="rId1"/>
          <a:stretch/>
        </p:blipFill>
        <p:spPr>
          <a:xfrm>
            <a:off x="0" y="716040"/>
            <a:ext cx="90518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7" name="Grafik 3" descr=""/>
          <p:cNvPicPr/>
          <p:nvPr/>
        </p:nvPicPr>
        <p:blipFill>
          <a:blip r:embed="rId1"/>
          <a:stretch/>
        </p:blipFill>
        <p:spPr>
          <a:xfrm>
            <a:off x="7074000" y="1623960"/>
            <a:ext cx="1925640" cy="3151080"/>
          </a:xfrm>
          <a:prstGeom prst="rect">
            <a:avLst/>
          </a:prstGeom>
          <a:ln w="0">
            <a:noFill/>
          </a:ln>
        </p:spPr>
      </p:pic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Mindmaps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orführu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sktopfreiga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führung Mindmaps mit XMind</a:t>
            </a:r>
            <a:br>
              <a:rPr sz="3600"/>
            </a:b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Xmind 8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36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ttps://www.xmind.net/xmind8-pro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Was sind Ursache-Wirkungs-Diagramme?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Inf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507600" y="264960"/>
            <a:ext cx="6591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Ursache-Wirkungs-Diagramme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(Fischgrätendiagramm, Ishikawa-Diagram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Einflussfaktoren eine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Problem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dentifizi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2" name="Grafik 2" descr=""/>
          <p:cNvPicPr/>
          <p:nvPr/>
        </p:nvPicPr>
        <p:blipFill>
          <a:blip r:embed="rId1"/>
          <a:stretch/>
        </p:blipFill>
        <p:spPr>
          <a:xfrm>
            <a:off x="4416480" y="1422360"/>
            <a:ext cx="45352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Ursache-Wirkungs-Diagramme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Anwendungsmöglichkeit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473040" y="336600"/>
            <a:ext cx="6894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205920" indent="-205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bereitung auf eine Prä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5920" indent="-205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Überlegungen zur VW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5920" indent="-205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mmer wenn ein Problem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uftauc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5" name="Grafik 2" descr=""/>
          <p:cNvPicPr/>
          <p:nvPr/>
        </p:nvPicPr>
        <p:blipFill>
          <a:blip r:embed="rId1"/>
          <a:stretch/>
        </p:blipFill>
        <p:spPr>
          <a:xfrm>
            <a:off x="5784840" y="1190520"/>
            <a:ext cx="31212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orstellu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7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iedrich Saur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hrer am Gymnasium Hartbe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Blo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www.Tafelzeichnen.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www.VorwissenschaftlicheArbeit.inf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www.unterricht.w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8" name="Grafik 5" descr=""/>
          <p:cNvPicPr/>
          <p:nvPr/>
        </p:nvPicPr>
        <p:blipFill>
          <a:blip r:embed="rId1"/>
          <a:stretch/>
        </p:blipFill>
        <p:spPr>
          <a:xfrm>
            <a:off x="6066000" y="-6480"/>
            <a:ext cx="30175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Ursache-Wirkungs-Diagramme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organgsweise (mit Software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507600" y="264600"/>
            <a:ext cx="6203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482760" indent="-482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Thema / Problem festl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2760" indent="-482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Hauptursachen defini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2760" indent="-482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Unteräste mit den Problemursachen einfü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82760" indent="-482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8" name="Grafik 4" descr=""/>
          <p:cNvPicPr/>
          <p:nvPr/>
        </p:nvPicPr>
        <p:blipFill>
          <a:blip r:embed="rId1"/>
          <a:stretch/>
        </p:blipFill>
        <p:spPr>
          <a:xfrm>
            <a:off x="7000920" y="1884240"/>
            <a:ext cx="21430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Ursache-Wirkungs-Diagramme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Beispie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50" name="Grafik 1" descr=""/>
          <p:cNvPicPr/>
          <p:nvPr/>
        </p:nvPicPr>
        <p:blipFill>
          <a:blip r:embed="rId1"/>
          <a:stretch/>
        </p:blipFill>
        <p:spPr>
          <a:xfrm>
            <a:off x="339840" y="210960"/>
            <a:ext cx="8753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Ursache-Wirkungs-Diagramme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orführu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2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sktopfreiga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führung </a:t>
            </a:r>
            <a:r>
              <a:rPr b="0" lang="de-AT" sz="3600" spc="-1" strike="noStrike">
                <a:solidFill>
                  <a:srgbClr val="000000"/>
                </a:solidFill>
                <a:latin typeface="Calibri"/>
              </a:rPr>
              <a:t>Ursache-Wirkungs-Diagramme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mit XMind</a:t>
            </a:r>
            <a:br>
              <a:rPr sz="3600"/>
            </a:b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Xmind 8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36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ttps://www.xmind.net/xmind8-pro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3" name="Grafik 3" descr=""/>
          <p:cNvPicPr/>
          <p:nvPr/>
        </p:nvPicPr>
        <p:blipFill>
          <a:blip r:embed="rId1"/>
          <a:stretch/>
        </p:blipFill>
        <p:spPr>
          <a:xfrm>
            <a:off x="7074000" y="1623960"/>
            <a:ext cx="1925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Was sind Flussdiagramme?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Inf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507600" y="264960"/>
            <a:ext cx="4923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lussdiagramme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(Programmablauf-Diagramm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bekannt aus der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formati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6" name="Grafik 2" descr=""/>
          <p:cNvPicPr/>
          <p:nvPr/>
        </p:nvPicPr>
        <p:blipFill>
          <a:blip r:embed="rId1"/>
          <a:stretch/>
        </p:blipFill>
        <p:spPr>
          <a:xfrm>
            <a:off x="5430960" y="1268280"/>
            <a:ext cx="29988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Flussdiagramme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Anwendungsmöglichkeit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Entscheidungsbäume / Abläufe z.B.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Ziti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rbeitsabläufe / Anleit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(Chemieanalysen, …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bläufe im Alltag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(Wie befülle ich eine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Waschmaschine?,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ehlersuche, …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9" name="Grafik 2" descr=""/>
          <p:cNvPicPr/>
          <p:nvPr/>
        </p:nvPicPr>
        <p:blipFill>
          <a:blip r:embed="rId1"/>
          <a:stretch/>
        </p:blipFill>
        <p:spPr>
          <a:xfrm>
            <a:off x="6551640" y="1954080"/>
            <a:ext cx="234144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Flussdiagramme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organgsweise (mit Software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205920" indent="-205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ymbole einfü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5920" indent="-205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erbind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5920" indent="-205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Normierte Symbole z.B.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5920" indent="-205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Rechteck 1"/>
          <p:cNvSpPr/>
          <p:nvPr/>
        </p:nvSpPr>
        <p:spPr>
          <a:xfrm>
            <a:off x="750960" y="3029040"/>
            <a:ext cx="1974600" cy="873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Vorg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Flussdiagramm: Verzweigung 2"/>
          <p:cNvSpPr/>
          <p:nvPr/>
        </p:nvSpPr>
        <p:spPr>
          <a:xfrm>
            <a:off x="3192480" y="2714760"/>
            <a:ext cx="2906640" cy="1501560"/>
          </a:xfrm>
          <a:prstGeom prst="flowChartDecision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Verzweigu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4" name="Grafik 4" descr=""/>
          <p:cNvPicPr/>
          <p:nvPr/>
        </p:nvPicPr>
        <p:blipFill>
          <a:blip r:embed="rId1"/>
          <a:stretch/>
        </p:blipFill>
        <p:spPr>
          <a:xfrm>
            <a:off x="7000920" y="1884240"/>
            <a:ext cx="21430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Flussdiagramme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Beispie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66" name="Grafik 2" descr=""/>
          <p:cNvPicPr/>
          <p:nvPr/>
        </p:nvPicPr>
        <p:blipFill>
          <a:blip r:embed="rId1"/>
          <a:stretch/>
        </p:blipFill>
        <p:spPr>
          <a:xfrm>
            <a:off x="901800" y="0"/>
            <a:ext cx="54356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Flussdiagramme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orführu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8" name=""/>
          <p:cNvSpPr txBox="1"/>
          <p:nvPr/>
        </p:nvSpPr>
        <p:spPr>
          <a:xfrm>
            <a:off x="507600" y="264600"/>
            <a:ext cx="6566040" cy="40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sktopfreiga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führung </a:t>
            </a:r>
            <a:r>
              <a:rPr b="0" lang="de-AT" sz="3600" spc="-1" strike="noStrike">
                <a:solidFill>
                  <a:srgbClr val="000000"/>
                </a:solidFill>
                <a:latin typeface="Calibri"/>
              </a:rPr>
              <a:t>Flussdiagramme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mit dem PapDesigner</a:t>
            </a:r>
            <a:br>
              <a:rPr sz="3600"/>
            </a:b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PAP Designer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https://www.heise.de/download/product/papdesigner-5188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9" name="Grafik 3" descr=""/>
          <p:cNvPicPr/>
          <p:nvPr/>
        </p:nvPicPr>
        <p:blipFill>
          <a:blip r:embed="rId1"/>
          <a:stretch/>
        </p:blipFill>
        <p:spPr>
          <a:xfrm>
            <a:off x="7074000" y="1623960"/>
            <a:ext cx="1925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4 ausgewählte Visualsierungstools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Inhal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507960" y="264960"/>
            <a:ext cx="8460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Concept Ma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Mindma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Ursache-Wirkungs-Diagram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lussdiagramme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OWNLOAD von Arbeitsblättern am E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1" name="Grafik 2" descr=""/>
          <p:cNvPicPr/>
          <p:nvPr/>
        </p:nvPicPr>
        <p:blipFill>
          <a:blip r:embed="rId1"/>
          <a:stretch/>
        </p:blipFill>
        <p:spPr>
          <a:xfrm rot="228600">
            <a:off x="5613480" y="-82440"/>
            <a:ext cx="32320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Inhalte für jeden Block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Zie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507600" y="264960"/>
            <a:ext cx="4923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fo zur Visualisier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nwendu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gangsweise bei der Erstell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oftware für die Erstellung kennen ler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4" name="Grafik 2" descr=""/>
          <p:cNvPicPr/>
          <p:nvPr/>
        </p:nvPicPr>
        <p:blipFill>
          <a:blip r:embed="rId1"/>
          <a:stretch/>
        </p:blipFill>
        <p:spPr>
          <a:xfrm rot="228600">
            <a:off x="4995720" y="755640"/>
            <a:ext cx="34657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Was sind Concept Maps?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Inf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6" name=""/>
          <p:cNvSpPr txBox="1"/>
          <p:nvPr/>
        </p:nvSpPr>
        <p:spPr>
          <a:xfrm>
            <a:off x="507600" y="264960"/>
            <a:ext cx="4923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isualisierung von Begriffen und den Zusammenhä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ufbau als Net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Beziehungspfeile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zwischen den Begriff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7" name="Grafik 2" descr=""/>
          <p:cNvPicPr/>
          <p:nvPr/>
        </p:nvPicPr>
        <p:blipFill>
          <a:blip r:embed="rId1"/>
          <a:stretch/>
        </p:blipFill>
        <p:spPr>
          <a:xfrm>
            <a:off x="5900760" y="307800"/>
            <a:ext cx="30924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Was sind Concept Maps?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Anwendungsbeispie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507600" y="264960"/>
            <a:ext cx="4923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tammbaum mit Zusatzinfos (z.B. Verfeindungen, …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lle Unterrichtsthe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0" name="Grafik 2" descr=""/>
          <p:cNvPicPr/>
          <p:nvPr/>
        </p:nvPicPr>
        <p:blipFill>
          <a:blip r:embed="rId1"/>
          <a:stretch/>
        </p:blipFill>
        <p:spPr>
          <a:xfrm>
            <a:off x="4132440" y="1500120"/>
            <a:ext cx="47415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Concept Maps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Anwendungsmöglichkeit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87840" indent="-8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isualisierung / Präsentation von Wis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840" indent="-8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Erkennen von Zusammenhä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840" indent="-8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Unterstützung beim Verstehen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komplexen Tex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840" indent="-8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inden von Wissenslücken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und fehlenden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Zusammenhä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840" indent="-87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7840" indent="-87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3" name="Grafik 4" descr=""/>
          <p:cNvPicPr/>
          <p:nvPr/>
        </p:nvPicPr>
        <p:blipFill>
          <a:blip r:embed="rId1"/>
          <a:stretch/>
        </p:blipFill>
        <p:spPr>
          <a:xfrm>
            <a:off x="6305400" y="2070000"/>
            <a:ext cx="27352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339480" y="51958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Concept Maps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Vorgangsweise (mit Software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507960" y="26460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259920" indent="-25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Lesen der Aufgabenstell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9920" indent="-25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Begriffsliste erstel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9920" indent="-25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Begriffe verbin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9920" indent="-25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Pfeile beschrif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9920" indent="-25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Überprüf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9920" indent="-25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Begriffe vertei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6" name="Grafik 4" descr=""/>
          <p:cNvPicPr/>
          <p:nvPr/>
        </p:nvPicPr>
        <p:blipFill>
          <a:blip r:embed="rId1"/>
          <a:stretch/>
        </p:blipFill>
        <p:spPr>
          <a:xfrm>
            <a:off x="7000920" y="1884240"/>
            <a:ext cx="21430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39840" y="5195880"/>
            <a:ext cx="82612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300" spc="-1" strike="noStrike">
                <a:solidFill>
                  <a:srgbClr val="000000"/>
                </a:solidFill>
                <a:latin typeface="Calibri Light"/>
              </a:rPr>
              <a:t>Concept Maps im Unterricht</a:t>
            </a:r>
            <a:br>
              <a:rPr sz="3300"/>
            </a:br>
            <a:r>
              <a:rPr b="1" lang="de-AT" sz="3300" spc="-1" strike="noStrike">
                <a:solidFill>
                  <a:srgbClr val="000000"/>
                </a:solidFill>
                <a:latin typeface="Calibri Light"/>
              </a:rPr>
              <a:t>Begriffe aus dem Text (hier Atombau / Chemie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18" name="Grafik 8" descr=""/>
          <p:cNvPicPr/>
          <p:nvPr/>
        </p:nvPicPr>
        <p:blipFill>
          <a:blip r:embed="rId1"/>
          <a:stretch/>
        </p:blipFill>
        <p:spPr>
          <a:xfrm>
            <a:off x="1311120" y="-7920"/>
            <a:ext cx="61516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17:47:49Z</dcterms:created>
  <dc:creator>Friedrich Saurer, www.unterricht.ws</dc:creator>
  <dc:description/>
  <dc:language>en-US</dc:language>
  <cp:lastModifiedBy>Friedrich Saurer</cp:lastModifiedBy>
  <dcterms:modified xsi:type="dcterms:W3CDTF">2018-11-20T22:06:27Z</dcterms:modified>
  <cp:revision>131</cp:revision>
  <dc:subject/>
  <dc:title>Visualisierung - www.unterricht.ws</dc:title>
</cp:coreProperties>
</file>